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24AD-A794-4B83-8048-D1A54A6F14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F3E1-A522-4284-A16A-87B5489DF5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5CA2-26A6-4CE4-9568-E1F3E3DE56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A7FE-EFE5-4DAF-94A1-A87593073D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AF1B-319B-4047-9D34-4873E41AEB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8071-AF18-4129-BC18-1ACDDBEA22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B332-7ECC-4A12-B3C2-8B6E35F205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6801-C4D8-4535-B707-9FC32F355E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E6B3-8AED-4626-80C6-D2D9856150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1992-B2EE-4FAB-BDDA-32FE05CF72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5217-81E6-4F58-BE4F-A43656ABB4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1E4D-4F40-4DFA-AFAD-2F9BE21E5C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864E-6605-4E91-AFB4-FB49E0BF48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34CC-3903-40F3-8171-0660DFD964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0A719-8753-449D-90B7-A5772C4A4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BBE20-19DB-47D2-8547-05EE1F39715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0A098-7EAC-4797-9F47-05F8175C813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3F762-5693-4944-8BA9-DE963C6ABEB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542DE-582A-4D36-8136-AF65327C3BB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3777B-766B-447B-A0AC-6DCEC6D4C6A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CB9A3-A989-4DC2-BAB5-D12DF2135EF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C7E06-7F93-4365-9FB0-0066B22FF8E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CC82F-292B-4A21-B5B9-80B8F537822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7C44E-934A-4138-B008-B9D00F52A68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A46DC-5DBD-43E4-9BA0-13322741479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3CFA80-DE8A-4C3D-A0E9-1C17A856C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1510F-9294-439E-B758-F6A9E44657C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033BAF-B301-4AF0-A677-5E7B1D73B20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576D92-8280-43B8-85A0-D74464A34EF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17D58C-974D-419F-ABCD-E1C748075D2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D8872B-ABDC-4032-9BCF-84D8C5A1411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968D73-0FF5-4DE7-96A4-7CB7F639243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ECA4C2-6919-4383-82F7-E270A816613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9F0507-9248-4D4E-8C33-4BD2EB9FF37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B537C6-1C99-44B4-9ED0-F2C3AC83016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36A28D-6AC6-403A-B22D-6AA60007BB4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02F283-D9AA-49F7-8DD8-03897DCA4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66B62-D932-4374-8E0F-8379433259F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104241-F5DD-44BF-96EB-08DF45F8401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C045CE-7847-4AC3-9B42-A3F9E6761B0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CB0630-AE28-411C-90C8-49F6020389C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6223AF-5407-430F-B16C-1B45A745F62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CF3C42-73C8-4D2C-A54A-0E52205F617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4AF60C-786A-4764-92C8-F2CFBE19E6A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0EE4E6-91B6-4769-B5DC-683039DBD6F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827E6B-6697-4B54-929E-8C0E9B2FA9E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0E9CA5-C3EB-4DB2-A53F-3FC8B0CE73E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4C6341-96C3-4395-8ED6-8C3398FA3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0D8F1-3728-4B5B-9ED6-58056369B75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E76C19-0518-4DA2-B896-FE2CD1291AC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106D13-82C1-438E-9D63-3E0BD1516C9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4D3A12-B320-4919-A6D9-A04A6F90DEF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366B4-5785-4153-B06C-E843A2E0F16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CA0C6-112B-4A4F-BF12-56637C43B70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0EEC1-EA3F-4CB4-9F3D-A4C77041931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43F27-98E3-4A73-97CF-CA6923D4A06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5606D-520C-4F2E-8718-ACE6755DF96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50941-90DA-4799-A4FC-079AA1DE0D1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7AF5E-44E1-4E40-ACD7-9F81348851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A9EDA-2E8C-485D-A6B6-424FAC11800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F41DC-9EAF-45AE-B636-14F1D71B33B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1DF41-F847-4D48-B1EF-F6E04A9439D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870A8-8C49-4F45-A237-FF1B1E694BB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28910-9F6F-49C9-AA04-3BF95780CCC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D0B97-BA71-4635-84D1-681E73515DA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814523-8CA6-44DA-9F7F-25CBAE0E6E4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A2DDDC-F91C-4A82-8251-6D4FB6C43DD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E534FF-86EF-442D-AC9F-64AA2001CDE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B79714-5586-4B7E-A15C-987410F884A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941E8E-D691-4185-894B-CEE5093666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59FF5-6681-4411-B5D1-2A56EE63BB4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C20748-7625-49A0-A3F1-73C6C2358D7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5B5DC4-658A-4B0E-972B-33EE9874882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907F4B-09AB-480D-A438-48C4787465F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672FF8-248B-4E9F-9C5D-1930F1339E8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39E63A-68A2-4A5E-AD82-912CA49A485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294D67-27F9-4770-9F11-C97302A4A77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8F35ED-FD30-4CA4-9708-2F014BB317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CF507-2A28-40FB-BA3B-9F6C84867F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FE97E-EFE7-49DC-870D-03091DD41C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8535A-8554-4AC4-BFB8-38981F6E52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0AC0C-77A1-4E40-824A-1C5C804764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06712-39AB-41A7-B2E7-0A990B455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EB396-794E-44DE-A92E-3E45D74965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D16EA-E0DB-416C-AF40-F75449E10D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85821-4662-4E0A-B77A-C4F41F48F4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A7583-E503-42EE-9354-E61419B8AB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F0BA7-D5BB-49DF-BB4D-282C96CC9A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5477-CA26-49EF-ACDC-89357681C3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2118-2ED4-44A1-B750-E25231C9F2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757C-53D6-41D1-8386-C4383D9448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CFEC-86C0-4031-8B25-46E003D507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0546-867E-4B02-9AAD-27B75961EE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3FD50-F003-4B22-81F2-A016C93964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B780-F9DC-4374-A2FE-0563117AB8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9E96-EA5C-4417-B2D5-D3F2D3336E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B3A6-00BF-483C-8E33-DE1C340901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1B1D-B853-49E1-9BED-89ADFC8E2F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2F9F-7415-43C3-BAD7-BDA0670DA5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62B4-D67C-4BB9-B761-086FB61BE9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D067-3C3F-4F57-AD41-B4F96CD387B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ED57E-5393-4458-9090-70E69B19F3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97FE1-B197-47A8-88D9-02C4D2E7D1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30F0A-A236-4093-A038-C2FABCD44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5089F-753C-402D-B59B-DC6FC9A0D5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5956E-BB36-4689-BBEE-163E02FADD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8EAF7-BBB0-49EF-B790-B5B132774CA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BE62E-8F50-453E-BF23-2C65076885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6C7A4-F8CC-44EC-A710-36923FFA5D1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685F9-8D54-4345-80EA-EE4743812A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924E8-2F6D-46E8-BA75-8DEAE098CB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6FA31-8D9E-4415-9A3A-32055BF513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827A9-DDA5-4E0A-A82C-BB42847C31A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5B452E-4A4E-4B9F-8CE0-5D87D8934F9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BE7965-3578-4B5C-B518-C10E53238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982A6-79F9-4005-849C-14CF5F3A72B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EE5D74-C829-46EB-B603-7DFB93190F9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79CB56-E225-4D44-860F-86550568842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05BFBD-CCD6-4023-94FE-08D950084DA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626C56-38F8-4C1B-9B8A-3DA6E2B2C24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6F140C-949D-4115-917F-2B0574D843A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E26089-F0E9-4893-88C8-E2CD45CFFF4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B78215-F556-43F7-9E33-BC8C8A68D91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B99E5B-E770-4264-8D55-4C8044B45E1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984784-8B8C-41E7-925D-2A1BE52D83A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BCBDA2-15C8-4E41-8AEE-802848D77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40D5A-7E7E-4A57-ACAD-082958B5387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837599-6DE4-484A-B08E-354B066FB73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F6A8F-FB7C-4761-ADBD-A9681FC79C3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C5958-1660-4E94-BD81-04EA1F128BD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6AEDC-92AA-4AE9-9554-8733C6736E7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C78EF-6DA2-40A2-B60D-389DA5021FB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9F787-FFF9-407B-9799-0F68400B74F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551CA-3541-48AF-ACA2-14A2601FE5B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1B1FD-9563-4DB9-9906-38393B42144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0251F-37BC-4F19-B649-DD313234C21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CAD47-C3CE-4D05-B6CE-D17C78CC1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B5E58-F7DA-4EAD-9DCD-083486A40E2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A387A-5543-43C1-93BD-79A0237E6DF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CC650-1E9D-4BD7-BA70-51729C584A6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A5EF1-0EE2-42BB-B720-414CC0EDD98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38282E-1FB7-4D3D-A6F2-69A45D4DD47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634BF9-042C-43A8-BAF1-854DC6142E6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F3BC85-8CD1-4A82-A690-A47E8CD35BB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5AB1B6-5841-498F-8B87-BF6F53A18AE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71A292-ABB3-419E-891A-1890CE6A7FF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7ADA82-FC23-44C9-BDCC-D0EFF2BC938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85EE51-CD44-40C2-922A-0CAA7C2E1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00530-3D43-42F7-96A7-E538D07CF76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9257C-297B-4F12-8859-67D809B3E35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E1F0E9-8E92-4024-9C65-6ED750563E2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59DC21-1995-43FD-986A-F09BEC623A4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81742E-EFCF-4D1A-9A29-3DFEC84D0FF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940006-7696-47E6-AE28-370492D9F12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93FDE3-8AD5-4535-9B2A-7475B20A585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A6A055-2053-481B-809F-B1D9BFEE0C3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87C5DD-EA1F-4E1F-9F0F-2AD123DF780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40D51F-39C9-45A5-9A25-BB1B079A71B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43FE03-AE2E-44C6-A2CE-09D84CD37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3F187-414E-4DD2-8B7F-BF723B29EDC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DFE27C-4993-4BCA-943B-7B5F020F95B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56A530-020C-4A85-A710-9DC3EC51A4B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3361E0-F8B7-4151-9DFA-A5FCA8F7132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586DC8-41A7-498B-8659-2B9029EAE4B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2A464A-42D2-49DD-918F-C072E2E0F73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6BE939-CA4B-4229-BA88-4C3E0DBA6FC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7CCB77-A34D-485A-BCAA-90105F303EB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6514A-8059-4EC1-897E-6289EAAE134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FED47-3FAC-48C3-AAAC-3C3DF35952C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902BA-913E-405D-AD59-DBCE79601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364D-C73F-4C8C-8D9E-9EEB5476742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0656-D2E7-448F-9B38-DB62C5721C3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3538-CEE3-4ED2-AE88-B573AD5509D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2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2DC9-1882-4C1F-80A6-ED1312CE9CF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2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2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619C-3AD5-4AA9-B480-F1FCFCEA197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C073-02EA-4754-8070-F5194A9490B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79C2-C4AA-4037-98D5-2F670768183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9BF7-5045-479E-B0C0-17116A244D3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90DB-6CA4-4E10-A52D-EE0AC6169B3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FE26-E75F-4F4D-8D27-69F9C1FEA1E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7F03-9AE9-4469-9ED1-A837C05D1A1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1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1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F88D-C965-408C-862D-6EC7B33B540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0106-2586-4D4D-A438-EE843CD6E39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6FAB-CA9D-4E82-96EE-24B019A52AC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3480" y="1794960"/>
            <a:ext cx="82278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Service-oriented Architecture (SoA):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Preparing Your Business &amp; IT Products</a:t>
            </a:r>
            <a:br>
              <a:rPr sz="3200"/>
            </a:br>
            <a:br>
              <a:rPr sz="3200"/>
            </a:br>
            <a:r>
              <a:rPr b="1" lang="en-GB" sz="4800" spc="-1" strike="noStrike">
                <a:solidFill>
                  <a:srgbClr val="808080"/>
                </a:solidFill>
                <a:latin typeface="Times New Roman"/>
              </a:rPr>
              <a:t>Session 6 – Core Technology</a:t>
            </a:r>
            <a:endParaRPr b="1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83920" y="6392880"/>
            <a:ext cx="806436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r Colin Smyth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unelm Services Ltd (colin@dunelm.com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5" descr="88x31.png"/>
          <p:cNvPicPr/>
          <p:nvPr/>
        </p:nvPicPr>
        <p:blipFill>
          <a:blip r:embed="rId1"/>
          <a:stretch/>
        </p:blipFill>
        <p:spPr>
          <a:xfrm>
            <a:off x="469800" y="7835760"/>
            <a:ext cx="14223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FC06-588D-4CA2-B912-EC627076A10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PIs, Protocols and Interfac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765" name="Group 72"/>
          <p:cNvGrpSpPr/>
          <p:nvPr/>
        </p:nvGrpSpPr>
        <p:grpSpPr>
          <a:xfrm>
            <a:off x="6091200" y="4151160"/>
            <a:ext cx="2851200" cy="838440"/>
            <a:chOff x="6091200" y="4151160"/>
            <a:chExt cx="2851200" cy="838440"/>
          </a:xfrm>
        </p:grpSpPr>
        <p:grpSp>
          <p:nvGrpSpPr>
            <p:cNvPr id="766" name="Group 73"/>
            <p:cNvGrpSpPr/>
            <p:nvPr/>
          </p:nvGrpSpPr>
          <p:grpSpPr>
            <a:xfrm>
              <a:off x="6091200" y="4151160"/>
              <a:ext cx="1361880" cy="838440"/>
              <a:chOff x="6091200" y="4151160"/>
              <a:chExt cx="1361880" cy="838440"/>
            </a:xfrm>
          </p:grpSpPr>
          <p:sp>
            <p:nvSpPr>
              <p:cNvPr id="767" name="Rectangle 74"/>
              <p:cNvSpPr/>
              <p:nvPr/>
            </p:nvSpPr>
            <p:spPr>
              <a:xfrm>
                <a:off x="6091200" y="4151160"/>
                <a:ext cx="1361880" cy="83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Text Box 75"/>
              <p:cNvSpPr/>
              <p:nvPr/>
            </p:nvSpPr>
            <p:spPr>
              <a:xfrm>
                <a:off x="6108120" y="4259160"/>
                <a:ext cx="1299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n-the-wi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nterf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Group 76"/>
            <p:cNvGrpSpPr/>
            <p:nvPr/>
          </p:nvGrpSpPr>
          <p:grpSpPr>
            <a:xfrm>
              <a:off x="7435800" y="4151160"/>
              <a:ext cx="1506600" cy="838080"/>
              <a:chOff x="7435800" y="4151160"/>
              <a:chExt cx="1506600" cy="838080"/>
            </a:xfrm>
          </p:grpSpPr>
          <p:sp>
            <p:nvSpPr>
              <p:cNvPr id="770" name="Rectangle 77"/>
              <p:cNvSpPr/>
              <p:nvPr/>
            </p:nvSpPr>
            <p:spPr>
              <a:xfrm>
                <a:off x="7435800" y="4151160"/>
                <a:ext cx="1506600" cy="8380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Text Box 78"/>
              <p:cNvSpPr/>
              <p:nvPr/>
            </p:nvSpPr>
            <p:spPr>
              <a:xfrm>
                <a:off x="7556760" y="4262040"/>
                <a:ext cx="1262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rovid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2" name="Group 79"/>
          <p:cNvGrpSpPr/>
          <p:nvPr/>
        </p:nvGrpSpPr>
        <p:grpSpPr>
          <a:xfrm>
            <a:off x="190440" y="4151160"/>
            <a:ext cx="4300560" cy="838080"/>
            <a:chOff x="190440" y="4151160"/>
            <a:chExt cx="4300560" cy="838080"/>
          </a:xfrm>
        </p:grpSpPr>
        <p:grpSp>
          <p:nvGrpSpPr>
            <p:cNvPr id="773" name="Group 80"/>
            <p:cNvGrpSpPr/>
            <p:nvPr/>
          </p:nvGrpSpPr>
          <p:grpSpPr>
            <a:xfrm>
              <a:off x="190440" y="4151160"/>
              <a:ext cx="1354320" cy="838080"/>
              <a:chOff x="190440" y="4151160"/>
              <a:chExt cx="1354320" cy="838080"/>
            </a:xfrm>
          </p:grpSpPr>
          <p:sp>
            <p:nvSpPr>
              <p:cNvPr id="774" name="Rectangle 81"/>
              <p:cNvSpPr/>
              <p:nvPr/>
            </p:nvSpPr>
            <p:spPr>
              <a:xfrm>
                <a:off x="190440" y="4151160"/>
                <a:ext cx="13543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Text Box 82"/>
              <p:cNvSpPr/>
              <p:nvPr/>
            </p:nvSpPr>
            <p:spPr>
              <a:xfrm>
                <a:off x="236880" y="4227120"/>
                <a:ext cx="1262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nsum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Group 83"/>
            <p:cNvGrpSpPr/>
            <p:nvPr/>
          </p:nvGrpSpPr>
          <p:grpSpPr>
            <a:xfrm>
              <a:off x="3129120" y="4151160"/>
              <a:ext cx="1361880" cy="838080"/>
              <a:chOff x="3129120" y="4151160"/>
              <a:chExt cx="1361880" cy="838080"/>
            </a:xfrm>
          </p:grpSpPr>
          <p:sp>
            <p:nvSpPr>
              <p:cNvPr id="777" name="Rectangle 84"/>
              <p:cNvSpPr/>
              <p:nvPr/>
            </p:nvSpPr>
            <p:spPr>
              <a:xfrm>
                <a:off x="3129120" y="4151160"/>
                <a:ext cx="136188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85"/>
              <p:cNvSpPr/>
              <p:nvPr/>
            </p:nvSpPr>
            <p:spPr>
              <a:xfrm>
                <a:off x="3146040" y="4258800"/>
                <a:ext cx="1299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n-the-wi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nterf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86"/>
            <p:cNvGrpSpPr/>
            <p:nvPr/>
          </p:nvGrpSpPr>
          <p:grpSpPr>
            <a:xfrm>
              <a:off x="2085840" y="4151160"/>
              <a:ext cx="1041480" cy="838080"/>
              <a:chOff x="2085840" y="4151160"/>
              <a:chExt cx="1041480" cy="838080"/>
            </a:xfrm>
          </p:grpSpPr>
          <p:sp>
            <p:nvSpPr>
              <p:cNvPr id="780" name="Rectangle 87"/>
              <p:cNvSpPr/>
              <p:nvPr/>
            </p:nvSpPr>
            <p:spPr>
              <a:xfrm>
                <a:off x="2085840" y="4151160"/>
                <a:ext cx="104148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88"/>
              <p:cNvSpPr/>
              <p:nvPr/>
            </p:nvSpPr>
            <p:spPr>
              <a:xfrm>
                <a:off x="2147400" y="4386240"/>
                <a:ext cx="91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Adap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89"/>
            <p:cNvGrpSpPr/>
            <p:nvPr/>
          </p:nvGrpSpPr>
          <p:grpSpPr>
            <a:xfrm>
              <a:off x="1528920" y="4151160"/>
              <a:ext cx="549000" cy="838080"/>
              <a:chOff x="1528920" y="4151160"/>
              <a:chExt cx="549000" cy="838080"/>
            </a:xfrm>
          </p:grpSpPr>
          <p:sp>
            <p:nvSpPr>
              <p:cNvPr id="783" name="Rectangle 90"/>
              <p:cNvSpPr/>
              <p:nvPr/>
            </p:nvSpPr>
            <p:spPr>
              <a:xfrm>
                <a:off x="1528920" y="4151160"/>
                <a:ext cx="549000" cy="838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91"/>
              <p:cNvSpPr/>
              <p:nvPr/>
            </p:nvSpPr>
            <p:spPr>
              <a:xfrm flipH="1" flipV="1">
                <a:off x="1566360" y="4162680"/>
                <a:ext cx="423720" cy="813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terfa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85" name="AutoShape 92"/>
          <p:cNvCxnSpPr/>
          <p:nvPr/>
        </p:nvCxnSpPr>
        <p:spPr>
          <a:xfrm>
            <a:off x="4490640" y="4570200"/>
            <a:ext cx="16009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6" name="Text Box 93"/>
          <p:cNvSpPr/>
          <p:nvPr/>
        </p:nvSpPr>
        <p:spPr>
          <a:xfrm>
            <a:off x="4459680" y="4141800"/>
            <a:ext cx="16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the-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Group 94"/>
          <p:cNvGrpSpPr/>
          <p:nvPr/>
        </p:nvGrpSpPr>
        <p:grpSpPr>
          <a:xfrm>
            <a:off x="6068880" y="6335640"/>
            <a:ext cx="2851200" cy="853920"/>
            <a:chOff x="6068880" y="6335640"/>
            <a:chExt cx="2851200" cy="853920"/>
          </a:xfrm>
        </p:grpSpPr>
        <p:sp>
          <p:nvSpPr>
            <p:cNvPr id="788" name="Rectangle 95"/>
            <p:cNvSpPr/>
            <p:nvPr/>
          </p:nvSpPr>
          <p:spPr>
            <a:xfrm>
              <a:off x="6068880" y="6335640"/>
              <a:ext cx="136224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Text Box 96"/>
            <p:cNvSpPr/>
            <p:nvPr/>
          </p:nvSpPr>
          <p:spPr>
            <a:xfrm>
              <a:off x="6158160" y="6365520"/>
              <a:ext cx="117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-the-w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Rectangle 97"/>
            <p:cNvSpPr/>
            <p:nvPr/>
          </p:nvSpPr>
          <p:spPr>
            <a:xfrm>
              <a:off x="7413840" y="6335640"/>
              <a:ext cx="1506240" cy="838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Text Box 98"/>
            <p:cNvSpPr/>
            <p:nvPr/>
          </p:nvSpPr>
          <p:spPr>
            <a:xfrm>
              <a:off x="7512480" y="6470280"/>
              <a:ext cx="1308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ava-Pro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2" name="AutoShape 99"/>
          <p:cNvCxnSpPr/>
          <p:nvPr/>
        </p:nvCxnSpPr>
        <p:spPr>
          <a:xfrm>
            <a:off x="4468320" y="6754320"/>
            <a:ext cx="16009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93" name="Text Box 100"/>
          <p:cNvSpPr/>
          <p:nvPr/>
        </p:nvSpPr>
        <p:spPr>
          <a:xfrm>
            <a:off x="4703040" y="633744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Group 101"/>
          <p:cNvGrpSpPr/>
          <p:nvPr/>
        </p:nvGrpSpPr>
        <p:grpSpPr>
          <a:xfrm>
            <a:off x="168120" y="6335640"/>
            <a:ext cx="4300200" cy="838080"/>
            <a:chOff x="168120" y="6335640"/>
            <a:chExt cx="4300200" cy="838080"/>
          </a:xfrm>
        </p:grpSpPr>
        <p:sp>
          <p:nvSpPr>
            <p:cNvPr id="795" name="Rectangle 102"/>
            <p:cNvSpPr/>
            <p:nvPr/>
          </p:nvSpPr>
          <p:spPr>
            <a:xfrm>
              <a:off x="3106440" y="6335640"/>
              <a:ext cx="13618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Text Box 103"/>
            <p:cNvSpPr/>
            <p:nvPr/>
          </p:nvSpPr>
          <p:spPr>
            <a:xfrm>
              <a:off x="3198600" y="6340320"/>
              <a:ext cx="117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#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-the-w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Rectangle 104"/>
            <p:cNvSpPr/>
            <p:nvPr/>
          </p:nvSpPr>
          <p:spPr>
            <a:xfrm>
              <a:off x="1506240" y="6335640"/>
              <a:ext cx="54936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Text Box 105"/>
            <p:cNvSpPr/>
            <p:nvPr/>
          </p:nvSpPr>
          <p:spPr>
            <a:xfrm flipH="1" flipV="1">
              <a:off x="1416960" y="6346800"/>
              <a:ext cx="667080" cy="813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#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Rectangle 106"/>
            <p:cNvSpPr/>
            <p:nvPr/>
          </p:nvSpPr>
          <p:spPr>
            <a:xfrm>
              <a:off x="168120" y="6335640"/>
              <a:ext cx="135396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107"/>
            <p:cNvSpPr/>
            <p:nvPr/>
          </p:nvSpPr>
          <p:spPr>
            <a:xfrm>
              <a:off x="193680" y="6435360"/>
              <a:ext cx="1303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# Consu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Rectangle 108"/>
            <p:cNvSpPr/>
            <p:nvPr/>
          </p:nvSpPr>
          <p:spPr>
            <a:xfrm>
              <a:off x="2063520" y="6335640"/>
              <a:ext cx="1041480" cy="83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109"/>
            <p:cNvSpPr/>
            <p:nvPr/>
          </p:nvSpPr>
          <p:spPr>
            <a:xfrm>
              <a:off x="2166840" y="6467400"/>
              <a:ext cx="83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C#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dap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Text Box 110"/>
          <p:cNvSpPr/>
          <p:nvPr/>
        </p:nvSpPr>
        <p:spPr>
          <a:xfrm>
            <a:off x="4291920" y="519444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111"/>
          <p:cNvSpPr/>
          <p:nvPr/>
        </p:nvSpPr>
        <p:spPr>
          <a:xfrm>
            <a:off x="4322160" y="7353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112"/>
          <p:cNvSpPr/>
          <p:nvPr/>
        </p:nvSpPr>
        <p:spPr>
          <a:xfrm>
            <a:off x="3135240" y="3575160"/>
            <a:ext cx="0" cy="593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113"/>
          <p:cNvSpPr/>
          <p:nvPr/>
        </p:nvSpPr>
        <p:spPr>
          <a:xfrm>
            <a:off x="7445520" y="35830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114"/>
          <p:cNvSpPr/>
          <p:nvPr/>
        </p:nvSpPr>
        <p:spPr>
          <a:xfrm>
            <a:off x="2085840" y="3565440"/>
            <a:ext cx="0" cy="585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115"/>
          <p:cNvSpPr/>
          <p:nvPr/>
        </p:nvSpPr>
        <p:spPr>
          <a:xfrm>
            <a:off x="1535040" y="3575160"/>
            <a:ext cx="0" cy="576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116"/>
          <p:cNvSpPr/>
          <p:nvPr/>
        </p:nvSpPr>
        <p:spPr>
          <a:xfrm>
            <a:off x="3189240" y="3606840"/>
            <a:ext cx="4216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17"/>
          <p:cNvSpPr/>
          <p:nvPr/>
        </p:nvSpPr>
        <p:spPr>
          <a:xfrm>
            <a:off x="4413600" y="2513160"/>
            <a:ext cx="1387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118"/>
          <p:cNvSpPr/>
          <p:nvPr/>
        </p:nvSpPr>
        <p:spPr>
          <a:xfrm>
            <a:off x="2146320" y="36068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120"/>
          <p:cNvSpPr/>
          <p:nvPr/>
        </p:nvSpPr>
        <p:spPr>
          <a:xfrm>
            <a:off x="1544760" y="3605040"/>
            <a:ext cx="492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21"/>
          <p:cNvSpPr/>
          <p:nvPr/>
        </p:nvSpPr>
        <p:spPr>
          <a:xfrm>
            <a:off x="622440" y="2144880"/>
            <a:ext cx="15746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(A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AutoShape 122"/>
          <p:cNvCxnSpPr/>
          <p:nvPr/>
        </p:nvCxnSpPr>
        <p:spPr>
          <a:xfrm flipH="1">
            <a:off x="1785600" y="3149280"/>
            <a:ext cx="100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5" name="AutoShape 123"/>
          <p:cNvCxnSpPr/>
          <p:nvPr/>
        </p:nvCxnSpPr>
        <p:spPr>
          <a:xfrm flipH="1">
            <a:off x="2628720" y="3115800"/>
            <a:ext cx="216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6" name="AutoShape 124"/>
          <p:cNvCxnSpPr/>
          <p:nvPr/>
        </p:nvCxnSpPr>
        <p:spPr>
          <a:xfrm flipH="1">
            <a:off x="5125680" y="3141720"/>
            <a:ext cx="2160" cy="46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7" name="Text Box 119"/>
          <p:cNvSpPr/>
          <p:nvPr/>
        </p:nvSpPr>
        <p:spPr>
          <a:xfrm>
            <a:off x="2222640" y="2149560"/>
            <a:ext cx="13251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E433-5211-41EF-AC38-C7B6247C130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Interoperability &amp; Innov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ase of develop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3697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fine clear and comprehensive service interfaces for internal and external us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3697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parate data from presentation inform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mote interoperabil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3697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blish some or all of each interface in the form of an API and WSDL fi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2116-7CBF-433E-8BDD-A443B923C02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ombining Servic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paration into services requires combination to realise business process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Business Process Execution Language (BPEL) is used to choreograph/orchestrate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nsider the nature of services/messaging i.e. synchronous, asynchronous, polled, etc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Straight Connector 36"/>
          <p:cNvSpPr/>
          <p:nvPr/>
        </p:nvSpPr>
        <p:spPr>
          <a:xfrm>
            <a:off x="1790640" y="2862360"/>
            <a:ext cx="520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Straight Connector 40"/>
          <p:cNvSpPr/>
          <p:nvPr/>
        </p:nvSpPr>
        <p:spPr>
          <a:xfrm>
            <a:off x="1790640" y="4051440"/>
            <a:ext cx="520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Straight Connector 41"/>
          <p:cNvSpPr/>
          <p:nvPr/>
        </p:nvSpPr>
        <p:spPr>
          <a:xfrm>
            <a:off x="1773360" y="6354720"/>
            <a:ext cx="52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Straight Connector 42"/>
          <p:cNvSpPr/>
          <p:nvPr/>
        </p:nvSpPr>
        <p:spPr>
          <a:xfrm>
            <a:off x="1773360" y="5168880"/>
            <a:ext cx="52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Straight Connector 31"/>
          <p:cNvSpPr/>
          <p:nvPr/>
        </p:nvSpPr>
        <p:spPr>
          <a:xfrm>
            <a:off x="2324160" y="3174840"/>
            <a:ext cx="52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Straight Connector 32"/>
          <p:cNvSpPr/>
          <p:nvPr/>
        </p:nvSpPr>
        <p:spPr>
          <a:xfrm>
            <a:off x="2311560" y="3936960"/>
            <a:ext cx="52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Straight Connector 33"/>
          <p:cNvSpPr/>
          <p:nvPr/>
        </p:nvSpPr>
        <p:spPr>
          <a:xfrm>
            <a:off x="2311560" y="4660920"/>
            <a:ext cx="52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Straight Connector 34"/>
          <p:cNvSpPr/>
          <p:nvPr/>
        </p:nvSpPr>
        <p:spPr>
          <a:xfrm>
            <a:off x="2298600" y="5384880"/>
            <a:ext cx="520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traight Connector 35"/>
          <p:cNvSpPr/>
          <p:nvPr/>
        </p:nvSpPr>
        <p:spPr>
          <a:xfrm>
            <a:off x="2311560" y="6134040"/>
            <a:ext cx="52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25"/>
          <p:cNvSpPr/>
          <p:nvPr/>
        </p:nvSpPr>
        <p:spPr>
          <a:xfrm>
            <a:off x="2806560" y="2286000"/>
            <a:ext cx="6007320" cy="57531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11"/>
          <p:cNvSpPr/>
          <p:nvPr/>
        </p:nvSpPr>
        <p:spPr>
          <a:xfrm>
            <a:off x="4013280" y="2502000"/>
            <a:ext cx="1879560" cy="425448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Box 12"/>
          <p:cNvSpPr/>
          <p:nvPr/>
        </p:nvSpPr>
        <p:spPr>
          <a:xfrm rot="16200000">
            <a:off x="3759120" y="42346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processor and policy enfor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nterprise Service Bu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9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106B-2FC8-46BE-9CC6-A88DFD9DCD9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190440" y="2502000"/>
            <a:ext cx="1879560" cy="74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A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2565360" y="2933640"/>
            <a:ext cx="209556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2565360" y="3683160"/>
            <a:ext cx="209556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8"/>
          <p:cNvSpPr/>
          <p:nvPr/>
        </p:nvSpPr>
        <p:spPr>
          <a:xfrm>
            <a:off x="2577960" y="4406760"/>
            <a:ext cx="209556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9"/>
          <p:cNvSpPr/>
          <p:nvPr/>
        </p:nvSpPr>
        <p:spPr>
          <a:xfrm>
            <a:off x="2565360" y="5130720"/>
            <a:ext cx="209556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MS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10"/>
          <p:cNvSpPr/>
          <p:nvPr/>
        </p:nvSpPr>
        <p:spPr>
          <a:xfrm>
            <a:off x="2565360" y="5892840"/>
            <a:ext cx="209556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Rectangle 13" descr=""/>
          <p:cNvPicPr/>
          <p:nvPr/>
        </p:nvPicPr>
        <p:blipFill>
          <a:blip r:embed="rId1"/>
          <a:stretch/>
        </p:blipFill>
        <p:spPr>
          <a:xfrm>
            <a:off x="6248520" y="2494080"/>
            <a:ext cx="749160" cy="4271760"/>
          </a:xfrm>
          <a:prstGeom prst="rect">
            <a:avLst/>
          </a:prstGeom>
          <a:ln w="0">
            <a:noFill/>
          </a:ln>
        </p:spPr>
      </p:pic>
      <p:cxnSp>
        <p:nvCxnSpPr>
          <p:cNvPr id="848" name="Straight Arrow Connector 15"/>
          <p:cNvCxnSpPr>
            <a:stCxn id="836" idx="3"/>
            <a:endCxn id="847" idx="1"/>
          </p:cNvCxnSpPr>
          <p:nvPr/>
        </p:nvCxnSpPr>
        <p:spPr>
          <a:xfrm>
            <a:off x="5892480" y="4629240"/>
            <a:ext cx="369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49" name="Rectangle 16"/>
          <p:cNvSpPr/>
          <p:nvPr/>
        </p:nvSpPr>
        <p:spPr>
          <a:xfrm>
            <a:off x="7391520" y="2489040"/>
            <a:ext cx="1257120" cy="430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Box 17"/>
          <p:cNvSpPr/>
          <p:nvPr/>
        </p:nvSpPr>
        <p:spPr>
          <a:xfrm>
            <a:off x="7391520" y="250200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18"/>
          <p:cNvSpPr/>
          <p:nvPr/>
        </p:nvSpPr>
        <p:spPr>
          <a:xfrm>
            <a:off x="7454880" y="3289320"/>
            <a:ext cx="1104840" cy="1003320"/>
          </a:xfrm>
          <a:prstGeom prst="rect">
            <a:avLst/>
          </a:prstGeom>
          <a:solidFill>
            <a:srgbClr val="00009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19"/>
          <p:cNvSpPr/>
          <p:nvPr/>
        </p:nvSpPr>
        <p:spPr>
          <a:xfrm>
            <a:off x="7454880" y="5600880"/>
            <a:ext cx="1104840" cy="1002960"/>
          </a:xfrm>
          <a:prstGeom prst="rect">
            <a:avLst/>
          </a:prstGeom>
          <a:solidFill>
            <a:srgbClr val="00009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Box 20"/>
          <p:cNvSpPr/>
          <p:nvPr/>
        </p:nvSpPr>
        <p:spPr>
          <a:xfrm>
            <a:off x="7749360" y="449568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4" name="Straight Arrow Connector 21"/>
          <p:cNvCxnSpPr>
            <a:stCxn id="847" idx="3"/>
            <a:endCxn id="849" idx="1"/>
          </p:cNvCxnSpPr>
          <p:nvPr/>
        </p:nvCxnSpPr>
        <p:spPr>
          <a:xfrm>
            <a:off x="6984720" y="4628880"/>
            <a:ext cx="407160" cy="1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55" name="Rectangle 26"/>
          <p:cNvSpPr/>
          <p:nvPr/>
        </p:nvSpPr>
        <p:spPr>
          <a:xfrm>
            <a:off x="2921040" y="7493040"/>
            <a:ext cx="574020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27"/>
          <p:cNvSpPr/>
          <p:nvPr/>
        </p:nvSpPr>
        <p:spPr>
          <a:xfrm>
            <a:off x="2921040" y="6946920"/>
            <a:ext cx="574020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alization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Straight Connector 29"/>
          <p:cNvSpPr/>
          <p:nvPr/>
        </p:nvSpPr>
        <p:spPr>
          <a:xfrm flipH="1">
            <a:off x="2309400" y="2224080"/>
            <a:ext cx="3240" cy="595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37"/>
          <p:cNvSpPr/>
          <p:nvPr/>
        </p:nvSpPr>
        <p:spPr>
          <a:xfrm>
            <a:off x="190440" y="3657600"/>
            <a:ext cx="1879560" cy="74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End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38"/>
          <p:cNvSpPr/>
          <p:nvPr/>
        </p:nvSpPr>
        <p:spPr>
          <a:xfrm>
            <a:off x="190440" y="4826160"/>
            <a:ext cx="1879560" cy="74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App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39"/>
          <p:cNvSpPr/>
          <p:nvPr/>
        </p:nvSpPr>
        <p:spPr>
          <a:xfrm>
            <a:off x="190440" y="5981760"/>
            <a:ext cx="1879560" cy="74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Over-the-Horiz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74840" y="2234880"/>
            <a:ext cx="818640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ll Enterprise Service B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filing of WS-* Standar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tended REST-full capabilit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ols support for WSDLv2.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mantic We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S enabled network de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oud comput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del Driven Architectu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0D53-26DA-40A0-9E8A-731F44E1902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FC18-FC97-421A-A15F-0561541307C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re Web Services approach based upon XML, SOAP, WSD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st practice based on the WS-I Basic Profile and support Profi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, and separation, of interfaces and protocols to create flexible design for product inno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a rapidly changing area of technology so stay informe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icense &amp; Acknowledgement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7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725B-6D08-4330-8E3A-0BC167751D6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Picture 8" descr="CCImage.tiff"/>
          <p:cNvPicPr/>
          <p:nvPr/>
        </p:nvPicPr>
        <p:blipFill>
          <a:blip r:embed="rId1"/>
          <a:stretch/>
        </p:blipFill>
        <p:spPr>
          <a:xfrm>
            <a:off x="1066680" y="2031840"/>
            <a:ext cx="68580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3F5E-08A5-466B-A993-0301F9AC5BB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earning Objectiv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what implementation technologies should be adopted in the short and mid ter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the issues and concerns to be considered when looking to adopt Web Service solu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how technical interoperability must be addressed to support inno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176D-DBDA-4208-985B-2FD3089E08B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ore Web Technologi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774720" y="2865600"/>
            <a:ext cx="1398600" cy="78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051000" y="2865600"/>
            <a:ext cx="1432080" cy="787320"/>
          </a:xfrm>
          <a:prstGeom prst="rect">
            <a:avLst/>
          </a:prstGeom>
          <a:solidFill>
            <a:srgbClr val="4f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5207040" y="2865600"/>
            <a:ext cx="1396800" cy="787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S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7215120" y="2865600"/>
            <a:ext cx="1395360" cy="787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7" name="AutoShape 9"/>
          <p:cNvCxnSpPr>
            <a:stCxn id="643" idx="3"/>
            <a:endCxn id="644" idx="1"/>
          </p:cNvCxnSpPr>
          <p:nvPr/>
        </p:nvCxnSpPr>
        <p:spPr>
          <a:xfrm>
            <a:off x="2173320" y="3258720"/>
            <a:ext cx="8784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8" name="AutoShape 10"/>
          <p:cNvCxnSpPr>
            <a:stCxn id="644" idx="3"/>
            <a:endCxn id="645" idx="1"/>
          </p:cNvCxnSpPr>
          <p:nvPr/>
        </p:nvCxnSpPr>
        <p:spPr>
          <a:xfrm>
            <a:off x="4482720" y="3258720"/>
            <a:ext cx="724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9" name="AutoShape 11"/>
          <p:cNvCxnSpPr>
            <a:stCxn id="645" idx="3"/>
            <a:endCxn id="646" idx="1"/>
          </p:cNvCxnSpPr>
          <p:nvPr/>
        </p:nvCxnSpPr>
        <p:spPr>
          <a:xfrm>
            <a:off x="6603840" y="3258720"/>
            <a:ext cx="612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0" name="AutoShape 12"/>
          <p:cNvSpPr/>
          <p:nvPr/>
        </p:nvSpPr>
        <p:spPr>
          <a:xfrm>
            <a:off x="1270080" y="3962520"/>
            <a:ext cx="554040" cy="32220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13"/>
          <p:cNvSpPr/>
          <p:nvPr/>
        </p:nvSpPr>
        <p:spPr>
          <a:xfrm>
            <a:off x="3492360" y="3962520"/>
            <a:ext cx="552600" cy="32220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14"/>
          <p:cNvSpPr/>
          <p:nvPr/>
        </p:nvSpPr>
        <p:spPr>
          <a:xfrm>
            <a:off x="5548320" y="3962520"/>
            <a:ext cx="552600" cy="32220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15"/>
          <p:cNvSpPr/>
          <p:nvPr/>
        </p:nvSpPr>
        <p:spPr>
          <a:xfrm>
            <a:off x="7580160" y="3962520"/>
            <a:ext cx="552600" cy="32220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16"/>
          <p:cNvSpPr/>
          <p:nvPr/>
        </p:nvSpPr>
        <p:spPr>
          <a:xfrm>
            <a:off x="177840" y="4527720"/>
            <a:ext cx="279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17"/>
          <p:cNvSpPr/>
          <p:nvPr/>
        </p:nvSpPr>
        <p:spPr>
          <a:xfrm>
            <a:off x="2789280" y="4527720"/>
            <a:ext cx="202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8"/>
          <p:cNvSpPr/>
          <p:nvPr/>
        </p:nvSpPr>
        <p:spPr>
          <a:xfrm>
            <a:off x="4838760" y="4540320"/>
            <a:ext cx="201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19"/>
          <p:cNvSpPr/>
          <p:nvPr/>
        </p:nvSpPr>
        <p:spPr>
          <a:xfrm>
            <a:off x="7167600" y="4527720"/>
            <a:ext cx="163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711360" y="6459480"/>
            <a:ext cx="1398600" cy="78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2987640" y="6459480"/>
            <a:ext cx="1432080" cy="787320"/>
          </a:xfrm>
          <a:prstGeom prst="rect">
            <a:avLst/>
          </a:prstGeom>
          <a:solidFill>
            <a:srgbClr val="4f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5143680" y="6459480"/>
            <a:ext cx="1396800" cy="787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1" name="AutoShape 9"/>
          <p:cNvCxnSpPr>
            <a:stCxn id="658" idx="3"/>
            <a:endCxn id="659" idx="1"/>
          </p:cNvCxnSpPr>
          <p:nvPr/>
        </p:nvCxnSpPr>
        <p:spPr>
          <a:xfrm>
            <a:off x="2109960" y="6853320"/>
            <a:ext cx="8784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2" name="AutoShape 10"/>
          <p:cNvCxnSpPr>
            <a:stCxn id="659" idx="3"/>
            <a:endCxn id="660" idx="1"/>
          </p:cNvCxnSpPr>
          <p:nvPr/>
        </p:nvCxnSpPr>
        <p:spPr>
          <a:xfrm>
            <a:off x="4419360" y="6853320"/>
            <a:ext cx="724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3" name="AutoShape 12"/>
          <p:cNvSpPr/>
          <p:nvPr/>
        </p:nvSpPr>
        <p:spPr>
          <a:xfrm rot="10800000">
            <a:off x="1180800" y="5854320"/>
            <a:ext cx="554040" cy="32220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12"/>
          <p:cNvSpPr/>
          <p:nvPr/>
        </p:nvSpPr>
        <p:spPr>
          <a:xfrm rot="10800000">
            <a:off x="3428640" y="5867280"/>
            <a:ext cx="554040" cy="32256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12"/>
          <p:cNvSpPr/>
          <p:nvPr/>
        </p:nvSpPr>
        <p:spPr>
          <a:xfrm rot="10800000">
            <a:off x="5574960" y="5867280"/>
            <a:ext cx="554040" cy="32256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9761-2614-4FC3-A4C9-E42D0DAFF62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OAP Messag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9" name="Rectangle 4"/>
          <p:cNvSpPr/>
          <p:nvPr/>
        </p:nvSpPr>
        <p:spPr>
          <a:xfrm>
            <a:off x="297000" y="2070000"/>
            <a:ext cx="4325760" cy="58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tensible - support various WS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mote Procedure Call or document-based paylo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ult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vailable ver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AP v1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AP v1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5"/>
          <p:cNvGrpSpPr/>
          <p:nvPr/>
        </p:nvGrpSpPr>
        <p:grpSpPr>
          <a:xfrm>
            <a:off x="4863960" y="1943280"/>
            <a:ext cx="3682800" cy="6120720"/>
            <a:chOff x="4863960" y="1943280"/>
            <a:chExt cx="3682800" cy="6120720"/>
          </a:xfrm>
        </p:grpSpPr>
        <p:sp>
          <p:nvSpPr>
            <p:cNvPr id="671" name="AutoShape 6"/>
            <p:cNvSpPr/>
            <p:nvPr/>
          </p:nvSpPr>
          <p:spPr>
            <a:xfrm rot="10800000">
              <a:off x="4863960" y="1943280"/>
              <a:ext cx="3682800" cy="6120720"/>
            </a:xfrm>
            <a:prstGeom prst="foldedCorner">
              <a:avLst>
                <a:gd name="adj" fmla="val 1250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AutoShape 7"/>
            <p:cNvSpPr/>
            <p:nvPr/>
          </p:nvSpPr>
          <p:spPr>
            <a:xfrm>
              <a:off x="5420880" y="2753640"/>
              <a:ext cx="2754360" cy="2266560"/>
            </a:xfrm>
            <a:prstGeom prst="flowChart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AutoShape 8"/>
            <p:cNvSpPr/>
            <p:nvPr/>
          </p:nvSpPr>
          <p:spPr>
            <a:xfrm>
              <a:off x="5447520" y="5321520"/>
              <a:ext cx="2754360" cy="2431080"/>
            </a:xfrm>
            <a:prstGeom prst="flowChart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AutoShape 9"/>
            <p:cNvSpPr/>
            <p:nvPr/>
          </p:nvSpPr>
          <p:spPr>
            <a:xfrm>
              <a:off x="5535360" y="3391200"/>
              <a:ext cx="2523240" cy="131220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10"/>
            <p:cNvSpPr/>
            <p:nvPr/>
          </p:nvSpPr>
          <p:spPr>
            <a:xfrm>
              <a:off x="5478840" y="1976400"/>
              <a:ext cx="26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OAP Envel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Text Box 11"/>
            <p:cNvSpPr/>
            <p:nvPr/>
          </p:nvSpPr>
          <p:spPr>
            <a:xfrm>
              <a:off x="6368400" y="5349600"/>
              <a:ext cx="9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od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Text Box 12"/>
            <p:cNvSpPr/>
            <p:nvPr/>
          </p:nvSpPr>
          <p:spPr>
            <a:xfrm>
              <a:off x="6246720" y="2781720"/>
              <a:ext cx="12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ead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AutoShape 13"/>
            <p:cNvSpPr/>
            <p:nvPr/>
          </p:nvSpPr>
          <p:spPr>
            <a:xfrm>
              <a:off x="5573160" y="5993280"/>
              <a:ext cx="2523600" cy="1429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Text Box 14"/>
            <p:cNvSpPr/>
            <p:nvPr/>
          </p:nvSpPr>
          <p:spPr>
            <a:xfrm>
              <a:off x="5914800" y="6167520"/>
              <a:ext cx="168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aylo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ault Info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Text Box 15"/>
            <p:cNvSpPr/>
            <p:nvPr/>
          </p:nvSpPr>
          <p:spPr>
            <a:xfrm>
              <a:off x="5654160" y="3929400"/>
              <a:ext cx="222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eader block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" name="Group 16"/>
            <p:cNvGrpSpPr/>
            <p:nvPr/>
          </p:nvGrpSpPr>
          <p:grpSpPr>
            <a:xfrm>
              <a:off x="6209280" y="3494520"/>
              <a:ext cx="1153440" cy="259200"/>
              <a:chOff x="6209280" y="3494520"/>
              <a:chExt cx="1153440" cy="259200"/>
            </a:xfrm>
          </p:grpSpPr>
          <p:sp>
            <p:nvSpPr>
              <p:cNvPr id="682" name="Rectangle 17"/>
              <p:cNvSpPr/>
              <p:nvPr/>
            </p:nvSpPr>
            <p:spPr>
              <a:xfrm>
                <a:off x="6209280" y="3494520"/>
                <a:ext cx="24048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Rectangle 18"/>
              <p:cNvSpPr/>
              <p:nvPr/>
            </p:nvSpPr>
            <p:spPr>
              <a:xfrm>
                <a:off x="6437880" y="3494520"/>
                <a:ext cx="23976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19"/>
              <p:cNvSpPr/>
              <p:nvPr/>
            </p:nvSpPr>
            <p:spPr>
              <a:xfrm>
                <a:off x="6666120" y="3494520"/>
                <a:ext cx="23976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Rectangle 20"/>
              <p:cNvSpPr/>
              <p:nvPr/>
            </p:nvSpPr>
            <p:spPr>
              <a:xfrm>
                <a:off x="6894360" y="3494520"/>
                <a:ext cx="24048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Rectangle 21"/>
              <p:cNvSpPr/>
              <p:nvPr/>
            </p:nvSpPr>
            <p:spPr>
              <a:xfrm>
                <a:off x="7122960" y="3494520"/>
                <a:ext cx="23976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22"/>
            <p:cNvGrpSpPr/>
            <p:nvPr/>
          </p:nvGrpSpPr>
          <p:grpSpPr>
            <a:xfrm>
              <a:off x="6209280" y="3741480"/>
              <a:ext cx="1153440" cy="259200"/>
              <a:chOff x="6209280" y="3741480"/>
              <a:chExt cx="1153440" cy="259200"/>
            </a:xfrm>
          </p:grpSpPr>
          <p:sp>
            <p:nvSpPr>
              <p:cNvPr id="688" name="Rectangle 23"/>
              <p:cNvSpPr/>
              <p:nvPr/>
            </p:nvSpPr>
            <p:spPr>
              <a:xfrm>
                <a:off x="6209280" y="3741480"/>
                <a:ext cx="24048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Rectangle 24"/>
              <p:cNvSpPr/>
              <p:nvPr/>
            </p:nvSpPr>
            <p:spPr>
              <a:xfrm>
                <a:off x="6437880" y="3741480"/>
                <a:ext cx="23976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Rectangle 25"/>
              <p:cNvSpPr/>
              <p:nvPr/>
            </p:nvSpPr>
            <p:spPr>
              <a:xfrm>
                <a:off x="6666120" y="3741480"/>
                <a:ext cx="23976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Rectangle 26"/>
              <p:cNvSpPr/>
              <p:nvPr/>
            </p:nvSpPr>
            <p:spPr>
              <a:xfrm>
                <a:off x="6894360" y="3741480"/>
                <a:ext cx="24048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Rectangle 27"/>
              <p:cNvSpPr/>
              <p:nvPr/>
            </p:nvSpPr>
            <p:spPr>
              <a:xfrm>
                <a:off x="7122960" y="3741480"/>
                <a:ext cx="23976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BFF6-85B9-4339-9BE1-3C65DA2AE7D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Web Services Descrip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6" name="Rectangle 17"/>
          <p:cNvSpPr/>
          <p:nvPr/>
        </p:nvSpPr>
        <p:spPr>
          <a:xfrm>
            <a:off x="5641920" y="6103800"/>
            <a:ext cx="72864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5"/>
          <p:cNvSpPr/>
          <p:nvPr/>
        </p:nvSpPr>
        <p:spPr>
          <a:xfrm rot="16200000">
            <a:off x="27360" y="6205320"/>
            <a:ext cx="162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6"/>
          <p:cNvSpPr/>
          <p:nvPr/>
        </p:nvSpPr>
        <p:spPr>
          <a:xfrm rot="16200000">
            <a:off x="135000" y="3925800"/>
            <a:ext cx="14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Oval 7"/>
          <p:cNvSpPr/>
          <p:nvPr/>
        </p:nvSpPr>
        <p:spPr>
          <a:xfrm>
            <a:off x="1371600" y="6281640"/>
            <a:ext cx="2006640" cy="1020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10"/>
          <p:cNvSpPr/>
          <p:nvPr/>
        </p:nvSpPr>
        <p:spPr>
          <a:xfrm>
            <a:off x="1587600" y="3124080"/>
            <a:ext cx="6908760" cy="2227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AutoShape 11"/>
          <p:cNvSpPr/>
          <p:nvPr/>
        </p:nvSpPr>
        <p:spPr>
          <a:xfrm>
            <a:off x="3200400" y="6262560"/>
            <a:ext cx="3570120" cy="150840"/>
          </a:xfrm>
          <a:prstGeom prst="rightArrow">
            <a:avLst>
              <a:gd name="adj1" fmla="val 60435"/>
              <a:gd name="adj2" fmla="val 14989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12"/>
          <p:cNvSpPr/>
          <p:nvPr/>
        </p:nvSpPr>
        <p:spPr>
          <a:xfrm flipH="1">
            <a:off x="3225960" y="7010280"/>
            <a:ext cx="3473280" cy="139680"/>
          </a:xfrm>
          <a:prstGeom prst="rightArrow">
            <a:avLst>
              <a:gd name="adj1" fmla="val 60435"/>
              <a:gd name="adj2" fmla="val 1581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13"/>
          <p:cNvSpPr/>
          <p:nvPr/>
        </p:nvSpPr>
        <p:spPr>
          <a:xfrm>
            <a:off x="3484440" y="6019920"/>
            <a:ext cx="11638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3460680" y="6730920"/>
            <a:ext cx="1162080" cy="69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16"/>
          <p:cNvSpPr/>
          <p:nvPr/>
        </p:nvSpPr>
        <p:spPr>
          <a:xfrm>
            <a:off x="3543840" y="743580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19"/>
          <p:cNvSpPr/>
          <p:nvPr/>
        </p:nvSpPr>
        <p:spPr>
          <a:xfrm>
            <a:off x="2306520" y="535140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20"/>
          <p:cNvSpPr/>
          <p:nvPr/>
        </p:nvSpPr>
        <p:spPr>
          <a:xfrm>
            <a:off x="6853320" y="3240000"/>
            <a:ext cx="1515960" cy="20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21"/>
          <p:cNvSpPr/>
          <p:nvPr/>
        </p:nvSpPr>
        <p:spPr>
          <a:xfrm>
            <a:off x="2806560" y="3238560"/>
            <a:ext cx="2489400" cy="20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Typ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9" name="AutoShape 22"/>
          <p:cNvCxnSpPr>
            <a:stCxn id="707" idx="2"/>
            <a:endCxn id="710" idx="0"/>
          </p:cNvCxnSpPr>
          <p:nvPr/>
        </p:nvCxnSpPr>
        <p:spPr>
          <a:xfrm flipH="1">
            <a:off x="7606800" y="5267160"/>
            <a:ext cx="5760" cy="99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1" name="Rectangle 23"/>
          <p:cNvSpPr/>
          <p:nvPr/>
        </p:nvSpPr>
        <p:spPr>
          <a:xfrm>
            <a:off x="5102280" y="3238560"/>
            <a:ext cx="1801800" cy="20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rans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2" name="AutoShape 24"/>
          <p:cNvCxnSpPr>
            <a:stCxn id="711" idx="2"/>
            <a:endCxn id="696" idx="0"/>
          </p:cNvCxnSpPr>
          <p:nvPr/>
        </p:nvCxnSpPr>
        <p:spPr>
          <a:xfrm>
            <a:off x="6001200" y="5265720"/>
            <a:ext cx="3960" cy="838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AutoShape 25"/>
          <p:cNvCxnSpPr>
            <a:stCxn id="708" idx="2"/>
            <a:endCxn id="703" idx="0"/>
          </p:cNvCxnSpPr>
          <p:nvPr/>
        </p:nvCxnSpPr>
        <p:spPr>
          <a:xfrm>
            <a:off x="4051440" y="5265360"/>
            <a:ext cx="16560" cy="754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4" name="Text Box 26"/>
          <p:cNvSpPr/>
          <p:nvPr/>
        </p:nvSpPr>
        <p:spPr>
          <a:xfrm>
            <a:off x="1605960" y="309888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9"/>
          <p:cNvSpPr/>
          <p:nvPr/>
        </p:nvSpPr>
        <p:spPr>
          <a:xfrm>
            <a:off x="6616800" y="6256440"/>
            <a:ext cx="1981080" cy="1033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16"/>
          <p:cNvSpPr/>
          <p:nvPr/>
        </p:nvSpPr>
        <p:spPr>
          <a:xfrm>
            <a:off x="851760" y="2368440"/>
            <a:ext cx="80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b Services Description Language (WS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B331-B740-4E87-A832-AF3E53275A3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WS-I Organiz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74480" y="2234880"/>
            <a:ext cx="475740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b Services Interoperabi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stablish consensus on best practice adoption of Web Service standards from W3C and OA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S-I Basic Profile 1.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filing of the W3C Specif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ynchronous communications mod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further Basic Profiles under developm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2 – inc. WS-Address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0 – SOAPv1.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5494320" y="2197080"/>
          <a:ext cx="3009960" cy="5499000"/>
        </p:xfrm>
        <a:graphic>
          <a:graphicData uri="http://schemas.openxmlformats.org/drawingml/2006/table">
            <a:tbl>
              <a:tblPr/>
              <a:tblGrid>
                <a:gridCol w="3009960"/>
              </a:tblGrid>
              <a:tr h="110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ML schema v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10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APv1.1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TPv1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10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DLv1.1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10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DIv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721" name="AutoShape 19"/>
          <p:cNvSpPr/>
          <p:nvPr/>
        </p:nvSpPr>
        <p:spPr>
          <a:xfrm>
            <a:off x="4622760" y="4346640"/>
            <a:ext cx="660600" cy="771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1050-70E3-4535-9104-549A23D40B6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reating and Deploying Servic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reate a WSDL description (adopt interop best practice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Generate service implementation from the WSDL (use appropriate tool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stall the service using a Web Server e.g. Apach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ake the WSDL available for Client implementa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2C27-45D1-42FB-80DB-7275CE79B5E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0360" y="1299960"/>
            <a:ext cx="815364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WS-* Standard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393840" y="4127400"/>
          <a:ext cx="8204040" cy="4230720"/>
        </p:xfrm>
        <a:graphic>
          <a:graphicData uri="http://schemas.openxmlformats.org/drawingml/2006/table">
            <a:tbl>
              <a:tblPr/>
              <a:tblGrid>
                <a:gridCol w="2571480"/>
                <a:gridCol w="5632560"/>
              </a:tblGrid>
              <a:tr h="58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S Stand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T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ssage Transmission Optimisation Mechanism for sending non-XML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-Addr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d-point addr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-Secu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urity framework for authentication and authoris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-Poli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aching policy data to mess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P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composition using the Business Process Execution Langu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0" name="Rectangle 5"/>
          <p:cNvSpPr/>
          <p:nvPr/>
        </p:nvSpPr>
        <p:spPr>
          <a:xfrm>
            <a:off x="474840" y="2235240"/>
            <a:ext cx="813564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con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eration Web Services 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S-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 extend the capability of the core Web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F04C-4AED-4D94-9008-E7A6476FDF7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Web Services Stack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4" name="Rectangle 4"/>
          <p:cNvSpPr/>
          <p:nvPr/>
        </p:nvSpPr>
        <p:spPr>
          <a:xfrm>
            <a:off x="1828800" y="7137360"/>
            <a:ext cx="5375160" cy="754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, SMTP, FTP, IIOP, J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6"/>
          <p:cNvSpPr/>
          <p:nvPr/>
        </p:nvSpPr>
        <p:spPr>
          <a:xfrm>
            <a:off x="441360" y="2425680"/>
            <a:ext cx="1336680" cy="5448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7"/>
          <p:cNvSpPr/>
          <p:nvPr/>
        </p:nvSpPr>
        <p:spPr>
          <a:xfrm>
            <a:off x="612360" y="751824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8"/>
          <p:cNvSpPr/>
          <p:nvPr/>
        </p:nvSpPr>
        <p:spPr>
          <a:xfrm>
            <a:off x="7265880" y="2427120"/>
            <a:ext cx="1336680" cy="5446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9"/>
          <p:cNvSpPr/>
          <p:nvPr/>
        </p:nvSpPr>
        <p:spPr>
          <a:xfrm>
            <a:off x="1838160" y="2425680"/>
            <a:ext cx="5348520" cy="457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10"/>
          <p:cNvSpPr/>
          <p:nvPr/>
        </p:nvSpPr>
        <p:spPr>
          <a:xfrm>
            <a:off x="2262240" y="4508640"/>
            <a:ext cx="4857840" cy="22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11"/>
          <p:cNvSpPr/>
          <p:nvPr/>
        </p:nvSpPr>
        <p:spPr>
          <a:xfrm>
            <a:off x="2316240" y="6291360"/>
            <a:ext cx="4697280" cy="439560"/>
          </a:xfrm>
          <a:prstGeom prst="rect">
            <a:avLst/>
          </a:prstGeom>
          <a:solidFill>
            <a:srgbClr val="4f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AP (v1.1 &amp; v1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12"/>
          <p:cNvSpPr/>
          <p:nvPr/>
        </p:nvSpPr>
        <p:spPr>
          <a:xfrm>
            <a:off x="2333520" y="4940280"/>
            <a:ext cx="4680000" cy="1244520"/>
          </a:xfrm>
          <a:prstGeom prst="rect">
            <a:avLst/>
          </a:prstGeom>
          <a:solidFill>
            <a:srgbClr val="4f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13"/>
          <p:cNvSpPr/>
          <p:nvPr/>
        </p:nvSpPr>
        <p:spPr>
          <a:xfrm>
            <a:off x="3717360" y="4940280"/>
            <a:ext cx="20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AP Ext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14"/>
          <p:cNvSpPr/>
          <p:nvPr/>
        </p:nvSpPr>
        <p:spPr>
          <a:xfrm>
            <a:off x="2260440" y="3608280"/>
            <a:ext cx="4857840" cy="82404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DL (v1.1 &amp; 2.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15"/>
          <p:cNvSpPr/>
          <p:nvPr/>
        </p:nvSpPr>
        <p:spPr>
          <a:xfrm>
            <a:off x="4154400" y="44578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6"/>
          <p:cNvSpPr/>
          <p:nvPr/>
        </p:nvSpPr>
        <p:spPr>
          <a:xfrm rot="16200000">
            <a:off x="-49680" y="4538520"/>
            <a:ext cx="42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ic Technologies XML, DTD, X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17"/>
          <p:cNvSpPr/>
          <p:nvPr/>
        </p:nvSpPr>
        <p:spPr>
          <a:xfrm>
            <a:off x="2416320" y="5450040"/>
            <a:ext cx="79668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19"/>
          <p:cNvSpPr/>
          <p:nvPr/>
        </p:nvSpPr>
        <p:spPr>
          <a:xfrm>
            <a:off x="3286080" y="5442120"/>
            <a:ext cx="79704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S-Ato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20"/>
          <p:cNvSpPr/>
          <p:nvPr/>
        </p:nvSpPr>
        <p:spPr>
          <a:xfrm>
            <a:off x="4157640" y="5450040"/>
            <a:ext cx="83988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S-Rel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ss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21"/>
          <p:cNvSpPr/>
          <p:nvPr/>
        </p:nvSpPr>
        <p:spPr>
          <a:xfrm>
            <a:off x="547560" y="2511360"/>
            <a:ext cx="1111320" cy="84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22"/>
          <p:cNvSpPr/>
          <p:nvPr/>
        </p:nvSpPr>
        <p:spPr>
          <a:xfrm>
            <a:off x="533520" y="3408480"/>
            <a:ext cx="1110960" cy="83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23"/>
          <p:cNvSpPr/>
          <p:nvPr/>
        </p:nvSpPr>
        <p:spPr>
          <a:xfrm>
            <a:off x="7350120" y="2509920"/>
            <a:ext cx="117000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24"/>
          <p:cNvSpPr/>
          <p:nvPr/>
        </p:nvSpPr>
        <p:spPr>
          <a:xfrm>
            <a:off x="5072040" y="5440320"/>
            <a:ext cx="83988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r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25"/>
          <p:cNvSpPr/>
          <p:nvPr/>
        </p:nvSpPr>
        <p:spPr>
          <a:xfrm>
            <a:off x="7350120" y="3441600"/>
            <a:ext cx="1170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26"/>
          <p:cNvSpPr/>
          <p:nvPr/>
        </p:nvSpPr>
        <p:spPr>
          <a:xfrm>
            <a:off x="7202520" y="75261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27"/>
          <p:cNvSpPr/>
          <p:nvPr/>
        </p:nvSpPr>
        <p:spPr>
          <a:xfrm>
            <a:off x="2252520" y="2492280"/>
            <a:ext cx="4857840" cy="10540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28"/>
          <p:cNvSpPr/>
          <p:nvPr/>
        </p:nvSpPr>
        <p:spPr>
          <a:xfrm>
            <a:off x="4208040" y="24415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30"/>
          <p:cNvSpPr/>
          <p:nvPr/>
        </p:nvSpPr>
        <p:spPr>
          <a:xfrm>
            <a:off x="2336760" y="2870280"/>
            <a:ext cx="13255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31"/>
          <p:cNvSpPr/>
          <p:nvPr/>
        </p:nvSpPr>
        <p:spPr>
          <a:xfrm>
            <a:off x="3754440" y="2870280"/>
            <a:ext cx="7970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32"/>
          <p:cNvSpPr/>
          <p:nvPr/>
        </p:nvSpPr>
        <p:spPr>
          <a:xfrm>
            <a:off x="5986440" y="5448240"/>
            <a:ext cx="94932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S-R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33"/>
          <p:cNvSpPr/>
          <p:nvPr/>
        </p:nvSpPr>
        <p:spPr>
          <a:xfrm>
            <a:off x="5545080" y="2870280"/>
            <a:ext cx="14652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34"/>
          <p:cNvSpPr/>
          <p:nvPr/>
        </p:nvSpPr>
        <p:spPr>
          <a:xfrm>
            <a:off x="4643280" y="2870280"/>
            <a:ext cx="7970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D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0:30:08Z</dcterms:created>
  <dc:creator>C Smythe</dc:creator>
  <dc:description/>
  <dc:language>en-US</dc:language>
  <cp:lastModifiedBy>Colin Smythe</cp:lastModifiedBy>
  <cp:lastPrinted>2008-02-19T11:08:18Z</cp:lastPrinted>
  <dcterms:modified xsi:type="dcterms:W3CDTF">2009-05-20T20:26:50Z</dcterms:modified>
  <cp:revision>268</cp:revision>
  <dc:subject/>
  <dc:title>No Slide Title</dc:title>
</cp:coreProperties>
</file>