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8507-3BA6-4ED9-933B-2FB8E98F40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60D4-EA1A-4F62-92C8-424D233772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4EC-6ABF-4A7D-8E7D-2A81B9C99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D59-5086-41B1-8CCC-81E856D588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5ED-B90B-4C36-B340-DE2E8CB455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7F7-8678-4AF9-8151-0CDB2DB6D8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AB72-60AC-4E5C-9F88-6C51A8B2D4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23B-BE3F-4D07-BADC-07A65C288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C58-3148-4F4B-8355-16B2A03597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6CF-C5B7-4959-A704-1406C08FF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D3E-C619-4026-AE1D-5774172FC2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1D7-D500-4246-983F-CCEB8C6396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EC3A-8493-4624-ABBA-6332D6D9B5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F954-BA55-42FC-8CA1-0D0465DF18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2D71-4855-406F-8147-C6C64ECA4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39AE-8237-42AD-A6C4-F52BE07532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77B6-F337-403E-9D71-B2E6216ADE4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8B26E-FF7A-41A1-95A7-3FD64BD32D9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8126-139C-4854-9F78-F0DC49F940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FFC05-5A37-40B1-8771-527BB2F977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7223-C169-4E4E-9A1B-A14B047D97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F4C9-6179-40BA-BA49-79163C0498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0BA6E-FB4C-4899-91FE-A34F62E0CB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507E-9F1E-47B1-A6DB-CA1468C2DA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9B7EB-045C-49EA-A610-3C02AFD26CA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535B3-4DE4-476E-8508-C466B9665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94B7-BE20-428D-8B4D-B2B8345C38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F45CF-E080-4846-A8BE-6832F6CEB6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7FA68-79FF-42A1-98C5-45846078A2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93184-2193-4E10-B84C-C2EE5BAA66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ADA82-4B37-4BD3-9F2C-CE5C19A219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4255A-AAB2-4787-A363-891D3E1AB09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577D8-41E8-4E5F-BD6F-64C43160DCA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B6167-E6E5-4EB3-A8FC-C279F05E17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762B8-408A-4BCF-8B59-045D285BB4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4B99D-3B10-4BA6-8FC7-5350ED16EA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1E79A-A786-40C7-83FE-C5B9F269C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64E1-1ACD-435E-AAA4-6C0A233289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E6BC1-5574-40ED-9B6D-B2AB899136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A7339C-3CFA-48B8-A9E7-1C4F097AF2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A33906-6ECC-4A6B-9DB5-B769A4DC8A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5413D-4163-4314-B988-6D2641B233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B8D31-DEA4-4E22-AA50-3AF59BF719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BB6413-8F86-4F89-B6A4-5284D1E0AA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AF795-D336-4DDC-B548-D0B4610B20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103E0-2E6A-41F3-96F6-2E4A5A46359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B92867-BD5F-44A6-8F36-1C41595E12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49C47-6A2C-4C8B-9623-AABB1749D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8A550-D1D5-4C26-9699-C8359D0EFF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373A30-0456-4827-BDC9-4C6320F71CA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23C410-95C5-48E9-A40C-B2BC3171DD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D4D85B-01D6-402D-8411-1E15F6CC48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7332-3DE5-4446-A1FF-51A05FA2F95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0DEE-C18F-4B17-872C-EEB79C9A44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8CA0-2D11-474A-933D-99F3D14CBA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3AE4-DD24-4517-942D-5349A98CAC7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EBE5-50F8-4C79-A4A6-026465EBF5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9ED0-83CF-43E4-825F-4C5E8FA432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2452-B2EF-4CF3-95BC-987B0B47DD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8187-BAE6-4B50-BEDE-5C807AE4EF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06225-355B-4555-B8E5-07F6B027BD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543D5-27CF-44E5-AD0E-B4FAE38A37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D9394-403D-4145-B17B-164115BAA0B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0356-1235-4872-A321-52284F692E2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1F963-8D19-40BB-A294-BA8B6EBD5CB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BD7A4-BFB1-424E-9CF1-5E21725A66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DB725-5E06-458E-9922-64C9ABA225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AC3BC-6951-4BA4-9058-E14508D61D0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75440-38CC-436B-AC0F-BF24E34133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31FE2-5BE9-455E-B153-473946111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3699-BC9F-4CED-9BA0-9F69385C62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1A370-5842-4DC4-89B8-3F826DCEDF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85F18-EDFD-49A8-A6BE-7F592097F29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A9A8A-D649-47BC-AF26-0A366AFB99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A26B6-D0B6-4DF6-94E4-AE596F7B35E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8445F-E3AF-4BFE-9DDA-B7265BE6F0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975C2-B22F-4068-A070-808A4FB0ED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4ED1D-4F1B-4F62-AFD8-5DAE8C4F9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5E536-5C4E-44E6-8CAF-0E3091ABB9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E9BF3-D1C5-4C05-8983-7B47A6072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51420-23DA-4D6B-83EA-6A4510662D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2D421-DF40-406D-8AF4-469798A48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1532-7CF4-4A81-B5E7-C2430F1E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0DA0-A378-4FB9-89CA-D04684C0B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46D16-2DF7-44ED-A62B-329FDF729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77DAB-09FA-4635-8BD5-320C5BB37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5CA61-AAB7-495B-82F9-390A2881F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CD1E-5FEE-4CA4-9BE4-975E7A09E5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0E69-2C86-40E8-BB2B-48DB993A74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E0E0-2D14-45FD-9E67-740AEAA13E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3A4-45BC-495A-BEC4-7FD81376E7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88C4-B870-44AC-98A0-E1C4152D9D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2447-8691-4C29-9EA9-5D863E457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768B-81DA-4E1C-9F5C-1C0F22CE8C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5C5A-EFCF-441A-A3EE-0576035E3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08F-BCF1-408C-96AF-699B4445AA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899B-4613-45A9-B760-A676F5A18E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33F-AC21-4C1B-B3EB-4CADF613B6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411-07B8-4628-B1F7-EC12A43A4E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A926-F255-4534-B290-BCD3FDC06B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BDA-36B3-424B-983C-1D566554A0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B2D4E-D8DB-4D4B-8D9B-D698D22A7C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9C0BC-C2B2-452A-B2BE-87DAA60E95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03C64-5DF7-4711-832C-EF4CAB37A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AABB-420D-42C0-8838-9D1A1EF672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8FB42-30CC-42B0-918E-A9C2FC6791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D9EF9-16FE-4C58-B422-1EE93876CC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49CC8-461B-490E-B1B1-37D6ABFB3D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4588A-654D-4A16-A592-C090017774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365DC-88FE-447F-8C01-3E61200622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5BEB4-802B-484D-B3E1-03397B72B4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920A6-2622-4CB1-95D6-8C6DED463E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13C96-C59E-40DE-B63B-3AF1067E18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195F2-E33D-40B3-B2CE-37E6BB7809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CBC85-A3AE-4665-9C32-CA7410BB3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F907-F50F-438E-A9A2-4F1704EF4A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BAFC4-337E-4A6D-B9AF-BF6D0B99A3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FF5D6-E4D4-471A-A03B-1D2ED11573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8243A-4D3E-472D-8B3A-7C64FC7985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DD345-C808-4E47-9283-1D4966C3AB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60F43F-1545-44BC-8C54-B5335E08F1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27A6E-6072-4483-B1D8-5B15233064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67C0D-C544-4A80-919E-BF04D8A3DB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F4BC4-A9BC-47EC-9BBD-DAB2FBF139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5D803-F2A0-4FBD-A4CC-716A75953E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4E9F3-E3F2-402B-9914-6555BCF68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E0AD-11A4-493A-8FF8-3A9734DA79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D89C8-F718-471A-9182-8B3FE816B0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CA40-84D2-46D7-BAF4-3DD8DDB85F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8713-87D6-4264-9DFB-8DBC1C21C4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698D-B2BD-4784-9AAC-CB7BB320CC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B34F-4E71-4E56-96EE-0180E88C32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0D38-A76D-47E4-BA3C-E4DAFE59B8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6941-89D9-4558-8D08-FA374D857D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8190-171C-4A1B-A20D-2FE84312F9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1895-F428-45CD-821A-813D079FCD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3C5A-AA8A-45A6-9739-720248977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8D88-87E7-48AE-AB5F-F932575DFE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04AD-BA27-4F00-8E4A-9A0B150DBE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EC83-D3E6-4AD0-AB5E-C327265585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6695-C767-49DC-A81D-0225C8CC63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1F524-2459-4F4E-9CA8-F60B3931C2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7857A-BE7A-40CA-8CCA-E3746327FB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6653C-93D8-45C0-9ECF-CE1C2EDDFF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F90E9-1755-4FCC-AB68-A7CB5B786C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CAB83-F612-40E0-92A9-94A96D718B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1F8D3-8687-4527-AD61-A2FE3989F3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2EAA9-5D8A-4947-847F-4A28E444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648C-F545-4A2B-8E35-32A6F459C9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F9BBF-ECA3-486E-A333-551976A833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4D9A9-12EC-43B8-824C-F7F87941D6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33764-7039-417B-A835-FBBE59DFAB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1CA48-F658-4B7B-B899-9A53643691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C3B2E-59FC-4844-BA55-48BF201D95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F944A2-0AFF-402F-94B0-E9576B083D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BFC1F-35E2-47F8-B3D0-7CF3802D79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EB4B3-671F-4040-9484-25478A7DDA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E868F-9319-4E87-A251-1F731444B5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40EF6-5981-4CC9-A887-430DA9D77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40E9-27B8-4336-AF65-16742280B8E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7EDB51-D246-41FB-998E-DC2AAF67525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CEF06-AA7E-4185-9EED-FBD3A476A8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443F3-9AA0-4706-93E7-284BA0BC61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8514C-8493-4619-AEB9-F320E30A960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96817-8CBA-4525-A85A-1EF8810CE8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1A0FA-CE51-4FE5-B332-2480A8F8F09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C2AE8E-EEF6-428E-ACEC-E3CEDD2E97A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0DD4-8C56-47B1-820D-B002223A95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A7B15-BE78-43F1-8719-133442D766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C2C2-BB01-4081-A063-7FE876928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6A1C-A946-4B62-8BA7-6671116385D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3E19-378D-4E5E-B794-A28C3A3395B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E64-BF7B-4496-B0FB-0015421AFD5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77F7-7243-457F-B1CB-F33B806DA60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7A9-6874-4B13-AFCF-7A88026320F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BE1-94E5-4712-A661-4ED3396D8F5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37C-804F-4C51-B968-1C26F214D0D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16A-48BA-4914-B25A-2825AE67316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074-8DD2-4BB3-A4DB-E9F4F89D73C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2BB2-F76A-4689-B12D-949804BDEAE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7B5-484A-4C7A-98C8-74924AFB211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AE5-8038-4F94-B8F6-0A39F3BCB27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95E2-1892-4A43-BDD2-DCC71514369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142-8E14-4A88-91EE-66AAF957D68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5 – Case Stud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C87F-4105-4738-8457-7CB1DB09B6F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New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00" name="Group 10"/>
          <p:cNvGrpSpPr/>
          <p:nvPr/>
        </p:nvGrpSpPr>
        <p:grpSpPr>
          <a:xfrm>
            <a:off x="1549440" y="4906800"/>
            <a:ext cx="2197080" cy="1024200"/>
            <a:chOff x="1549440" y="4906800"/>
            <a:chExt cx="2197080" cy="1024200"/>
          </a:xfrm>
        </p:grpSpPr>
        <p:pic>
          <p:nvPicPr>
            <p:cNvPr id="801" name="Picture 11" descr=""/>
            <p:cNvPicPr/>
            <p:nvPr/>
          </p:nvPicPr>
          <p:blipFill>
            <a:blip r:embed="rId1"/>
            <a:stretch/>
          </p:blipFill>
          <p:spPr>
            <a:xfrm>
              <a:off x="1549440" y="4906800"/>
              <a:ext cx="21970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Box 12"/>
            <p:cNvSpPr/>
            <p:nvPr/>
          </p:nvSpPr>
          <p:spPr>
            <a:xfrm>
              <a:off x="1740600" y="508968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rapezoid 13"/>
          <p:cNvSpPr/>
          <p:nvPr/>
        </p:nvSpPr>
        <p:spPr>
          <a:xfrm flipV="1">
            <a:off x="682560" y="3540960"/>
            <a:ext cx="357048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7"/>
          <p:cNvSpPr/>
          <p:nvPr/>
        </p:nvSpPr>
        <p:spPr>
          <a:xfrm>
            <a:off x="5970600" y="6620040"/>
            <a:ext cx="2995560" cy="77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Group 18"/>
          <p:cNvGrpSpPr/>
          <p:nvPr/>
        </p:nvGrpSpPr>
        <p:grpSpPr>
          <a:xfrm>
            <a:off x="5335560" y="2571840"/>
            <a:ext cx="609120" cy="3200400"/>
            <a:chOff x="5335560" y="2571840"/>
            <a:chExt cx="609120" cy="3200400"/>
          </a:xfrm>
        </p:grpSpPr>
        <p:sp>
          <p:nvSpPr>
            <p:cNvPr id="806" name="Left Bracket 19"/>
            <p:cNvSpPr/>
            <p:nvPr/>
          </p:nvSpPr>
          <p:spPr>
            <a:xfrm>
              <a:off x="533556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eft Bracket 20"/>
            <p:cNvSpPr/>
            <p:nvPr/>
          </p:nvSpPr>
          <p:spPr>
            <a:xfrm flipH="1">
              <a:off x="563940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21"/>
          <p:cNvGrpSpPr/>
          <p:nvPr/>
        </p:nvGrpSpPr>
        <p:grpSpPr>
          <a:xfrm>
            <a:off x="6516720" y="2571840"/>
            <a:ext cx="609120" cy="3200400"/>
            <a:chOff x="6516720" y="2571840"/>
            <a:chExt cx="609120" cy="3200400"/>
          </a:xfrm>
        </p:grpSpPr>
        <p:sp>
          <p:nvSpPr>
            <p:cNvPr id="809" name="Left Bracket 22"/>
            <p:cNvSpPr/>
            <p:nvPr/>
          </p:nvSpPr>
          <p:spPr>
            <a:xfrm>
              <a:off x="651672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eft Bracket 23"/>
            <p:cNvSpPr/>
            <p:nvPr/>
          </p:nvSpPr>
          <p:spPr>
            <a:xfrm flipH="1">
              <a:off x="682056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Oval 24"/>
          <p:cNvSpPr/>
          <p:nvPr/>
        </p:nvSpPr>
        <p:spPr>
          <a:xfrm>
            <a:off x="5145120" y="4971960"/>
            <a:ext cx="2209680" cy="2210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26"/>
          <p:cNvSpPr/>
          <p:nvPr/>
        </p:nvSpPr>
        <p:spPr>
          <a:xfrm>
            <a:off x="5350680" y="203364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7"/>
          <p:cNvSpPr/>
          <p:nvPr/>
        </p:nvSpPr>
        <p:spPr>
          <a:xfrm>
            <a:off x="6019200" y="3786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28"/>
          <p:cNvGrpSpPr/>
          <p:nvPr/>
        </p:nvGrpSpPr>
        <p:grpSpPr>
          <a:xfrm>
            <a:off x="5133960" y="2946240"/>
            <a:ext cx="403200" cy="403560"/>
            <a:chOff x="5133960" y="2946240"/>
            <a:chExt cx="403200" cy="403560"/>
          </a:xfrm>
        </p:grpSpPr>
        <p:sp>
          <p:nvSpPr>
            <p:cNvPr id="815" name="Oval 29"/>
            <p:cNvSpPr/>
            <p:nvPr/>
          </p:nvSpPr>
          <p:spPr>
            <a:xfrm>
              <a:off x="5133960" y="2946240"/>
              <a:ext cx="403200" cy="40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Picture 30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5193720" y="3035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Group 31"/>
          <p:cNvGrpSpPr/>
          <p:nvPr/>
        </p:nvGrpSpPr>
        <p:grpSpPr>
          <a:xfrm>
            <a:off x="5133960" y="3441600"/>
            <a:ext cx="403200" cy="401760"/>
            <a:chOff x="5133960" y="3441600"/>
            <a:chExt cx="403200" cy="401760"/>
          </a:xfrm>
        </p:grpSpPr>
        <p:sp>
          <p:nvSpPr>
            <p:cNvPr id="818" name="Oval 32"/>
            <p:cNvSpPr/>
            <p:nvPr/>
          </p:nvSpPr>
          <p:spPr>
            <a:xfrm>
              <a:off x="5133960" y="34416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9" name="Picture 33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93720" y="35308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Group 34"/>
          <p:cNvGrpSpPr/>
          <p:nvPr/>
        </p:nvGrpSpPr>
        <p:grpSpPr>
          <a:xfrm>
            <a:off x="5133960" y="4570560"/>
            <a:ext cx="403200" cy="401400"/>
            <a:chOff x="5133960" y="4570560"/>
            <a:chExt cx="403200" cy="401400"/>
          </a:xfrm>
        </p:grpSpPr>
        <p:sp>
          <p:nvSpPr>
            <p:cNvPr id="821" name="Oval 35"/>
            <p:cNvSpPr/>
            <p:nvPr/>
          </p:nvSpPr>
          <p:spPr>
            <a:xfrm>
              <a:off x="5133960" y="457056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Picture 36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193720" y="465984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Group 37"/>
          <p:cNvGrpSpPr/>
          <p:nvPr/>
        </p:nvGrpSpPr>
        <p:grpSpPr>
          <a:xfrm>
            <a:off x="5133960" y="4046400"/>
            <a:ext cx="403200" cy="401760"/>
            <a:chOff x="5133960" y="4046400"/>
            <a:chExt cx="403200" cy="401760"/>
          </a:xfrm>
        </p:grpSpPr>
        <p:sp>
          <p:nvSpPr>
            <p:cNvPr id="824" name="Oval 38"/>
            <p:cNvSpPr/>
            <p:nvPr/>
          </p:nvSpPr>
          <p:spPr>
            <a:xfrm>
              <a:off x="5133960" y="40464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5" name="Picture 39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5193720" y="41356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Group 40"/>
          <p:cNvGrpSpPr/>
          <p:nvPr/>
        </p:nvGrpSpPr>
        <p:grpSpPr>
          <a:xfrm>
            <a:off x="6924600" y="2898720"/>
            <a:ext cx="403200" cy="401760"/>
            <a:chOff x="6924600" y="2898720"/>
            <a:chExt cx="403200" cy="401760"/>
          </a:xfrm>
        </p:grpSpPr>
        <p:sp>
          <p:nvSpPr>
            <p:cNvPr id="827" name="Oval 41"/>
            <p:cNvSpPr/>
            <p:nvPr/>
          </p:nvSpPr>
          <p:spPr>
            <a:xfrm>
              <a:off x="6924600" y="289872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Picture 42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6984360" y="298800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43"/>
          <p:cNvGrpSpPr/>
          <p:nvPr/>
        </p:nvGrpSpPr>
        <p:grpSpPr>
          <a:xfrm>
            <a:off x="6924600" y="3392640"/>
            <a:ext cx="403200" cy="403200"/>
            <a:chOff x="6924600" y="3392640"/>
            <a:chExt cx="403200" cy="403200"/>
          </a:xfrm>
        </p:grpSpPr>
        <p:sp>
          <p:nvSpPr>
            <p:cNvPr id="830" name="Oval 44"/>
            <p:cNvSpPr/>
            <p:nvPr/>
          </p:nvSpPr>
          <p:spPr>
            <a:xfrm>
              <a:off x="6924600" y="33926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1" name="Picture 45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6984360" y="34822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Group 46"/>
          <p:cNvGrpSpPr/>
          <p:nvPr/>
        </p:nvGrpSpPr>
        <p:grpSpPr>
          <a:xfrm>
            <a:off x="6924600" y="4521240"/>
            <a:ext cx="403200" cy="403200"/>
            <a:chOff x="6924600" y="4521240"/>
            <a:chExt cx="403200" cy="403200"/>
          </a:xfrm>
        </p:grpSpPr>
        <p:sp>
          <p:nvSpPr>
            <p:cNvPr id="833" name="Oval 47"/>
            <p:cNvSpPr/>
            <p:nvPr/>
          </p:nvSpPr>
          <p:spPr>
            <a:xfrm>
              <a:off x="6924600" y="45212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Picture 48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6984360" y="4610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Group 49"/>
          <p:cNvGrpSpPr/>
          <p:nvPr/>
        </p:nvGrpSpPr>
        <p:grpSpPr>
          <a:xfrm>
            <a:off x="6924600" y="3997440"/>
            <a:ext cx="403200" cy="401400"/>
            <a:chOff x="6924600" y="3997440"/>
            <a:chExt cx="403200" cy="401400"/>
          </a:xfrm>
        </p:grpSpPr>
        <p:sp>
          <p:nvSpPr>
            <p:cNvPr id="836" name="Oval 50"/>
            <p:cNvSpPr/>
            <p:nvPr/>
          </p:nvSpPr>
          <p:spPr>
            <a:xfrm>
              <a:off x="6924600" y="399744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Picture 51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6984360" y="408672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53" descr=""/>
          <p:cNvPicPr/>
          <p:nvPr/>
        </p:nvPicPr>
        <p:blipFill>
          <a:blip r:embed="rId10"/>
          <a:stretch/>
        </p:blipFill>
        <p:spPr>
          <a:xfrm>
            <a:off x="3773520" y="4660920"/>
            <a:ext cx="825480" cy="901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5" descr=""/>
          <p:cNvPicPr/>
          <p:nvPr/>
        </p:nvPicPr>
        <p:blipFill>
          <a:blip r:embed="rId11"/>
          <a:stretch/>
        </p:blipFill>
        <p:spPr>
          <a:xfrm>
            <a:off x="163980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6" descr=""/>
          <p:cNvPicPr/>
          <p:nvPr/>
        </p:nvPicPr>
        <p:blipFill>
          <a:blip r:embed="rId12"/>
          <a:stretch/>
        </p:blipFill>
        <p:spPr>
          <a:xfrm>
            <a:off x="229068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7" descr=""/>
          <p:cNvPicPr/>
          <p:nvPr/>
        </p:nvPicPr>
        <p:blipFill>
          <a:blip r:embed="rId13"/>
          <a:stretch/>
        </p:blipFill>
        <p:spPr>
          <a:xfrm>
            <a:off x="2900520" y="4005360"/>
            <a:ext cx="609480" cy="9270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8"/>
          <p:cNvSpPr/>
          <p:nvPr/>
        </p:nvSpPr>
        <p:spPr>
          <a:xfrm>
            <a:off x="165240" y="4013280"/>
            <a:ext cx="147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M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gm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59"/>
          <p:cNvSpPr/>
          <p:nvPr/>
        </p:nvSpPr>
        <p:spPr>
          <a:xfrm>
            <a:off x="1944720" y="4932360"/>
            <a:ext cx="4572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60"/>
          <p:cNvSpPr/>
          <p:nvPr/>
        </p:nvSpPr>
        <p:spPr>
          <a:xfrm flipH="1">
            <a:off x="2595600" y="49338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traight Connector 61"/>
          <p:cNvSpPr/>
          <p:nvPr/>
        </p:nvSpPr>
        <p:spPr>
          <a:xfrm flipH="1">
            <a:off x="2935080" y="4932360"/>
            <a:ext cx="2696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2"/>
          <p:cNvSpPr/>
          <p:nvPr/>
        </p:nvSpPr>
        <p:spPr>
          <a:xfrm>
            <a:off x="682560" y="2629080"/>
            <a:ext cx="3570480" cy="13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3"/>
          <p:cNvSpPr/>
          <p:nvPr/>
        </p:nvSpPr>
        <p:spPr>
          <a:xfrm>
            <a:off x="866880" y="3424320"/>
            <a:ext cx="32734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4"/>
          <p:cNvSpPr/>
          <p:nvPr/>
        </p:nvSpPr>
        <p:spPr>
          <a:xfrm>
            <a:off x="866880" y="2844720"/>
            <a:ext cx="327348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6"/>
          <p:cNvSpPr/>
          <p:nvPr/>
        </p:nvSpPr>
        <p:spPr>
          <a:xfrm>
            <a:off x="1300320" y="2543040"/>
            <a:ext cx="53316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67"/>
          <p:cNvSpPr/>
          <p:nvPr/>
        </p:nvSpPr>
        <p:spPr>
          <a:xfrm>
            <a:off x="29718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68"/>
          <p:cNvSpPr/>
          <p:nvPr/>
        </p:nvSpPr>
        <p:spPr>
          <a:xfrm>
            <a:off x="21510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96"/>
          <p:cNvGrpSpPr/>
          <p:nvPr/>
        </p:nvGrpSpPr>
        <p:grpSpPr>
          <a:xfrm>
            <a:off x="8005680" y="5029200"/>
            <a:ext cx="862200" cy="1989000"/>
            <a:chOff x="8005680" y="5029200"/>
            <a:chExt cx="862200" cy="1989000"/>
          </a:xfrm>
        </p:grpSpPr>
        <p:grpSp>
          <p:nvGrpSpPr>
            <p:cNvPr id="853" name="Group 195"/>
            <p:cNvGrpSpPr/>
            <p:nvPr/>
          </p:nvGrpSpPr>
          <p:grpSpPr>
            <a:xfrm>
              <a:off x="8337240" y="5029200"/>
              <a:ext cx="372240" cy="1469160"/>
              <a:chOff x="8337240" y="5029200"/>
              <a:chExt cx="372240" cy="1469160"/>
            </a:xfrm>
          </p:grpSpPr>
          <p:grpSp>
            <p:nvGrpSpPr>
              <p:cNvPr id="854" name="Group 200"/>
              <p:cNvGrpSpPr/>
              <p:nvPr/>
            </p:nvGrpSpPr>
            <p:grpSpPr>
              <a:xfrm>
                <a:off x="8337240" y="5029200"/>
                <a:ext cx="279720" cy="1469160"/>
                <a:chOff x="8337240" y="5029200"/>
                <a:chExt cx="279720" cy="1469160"/>
              </a:xfrm>
            </p:grpSpPr>
            <p:sp>
              <p:nvSpPr>
                <p:cNvPr id="855" name="Left Bracket 115"/>
                <p:cNvSpPr/>
                <p:nvPr/>
              </p:nvSpPr>
              <p:spPr>
                <a:xfrm>
                  <a:off x="833724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3080 h 1469160"/>
                    <a:gd name="textAreaBottom" fmla="*/ 139608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6"/>
                        <a:pt x="0" y="2152"/>
                      </a:cubicBezTo>
                      <a:lnTo>
                        <a:pt x="0" y="19448"/>
                      </a:lnTo>
                      <a:cubicBezTo>
                        <a:pt x="0" y="20524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Left Bracket 116"/>
                <p:cNvSpPr/>
                <p:nvPr/>
              </p:nvSpPr>
              <p:spPr>
                <a:xfrm flipH="1">
                  <a:off x="847656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0920 h 1469160"/>
                    <a:gd name="textAreaBottom" fmla="*/ 139824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4"/>
                        <a:pt x="0" y="2088"/>
                      </a:cubicBezTo>
                      <a:lnTo>
                        <a:pt x="0" y="19512"/>
                      </a:lnTo>
                      <a:cubicBezTo>
                        <a:pt x="0" y="20556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Group 201"/>
              <p:cNvGrpSpPr/>
              <p:nvPr/>
            </p:nvGrpSpPr>
            <p:grpSpPr>
              <a:xfrm>
                <a:off x="8524800" y="5178600"/>
                <a:ext cx="184680" cy="184320"/>
                <a:chOff x="8524800" y="5178600"/>
                <a:chExt cx="184680" cy="184320"/>
              </a:xfrm>
            </p:grpSpPr>
            <p:sp>
              <p:nvSpPr>
                <p:cNvPr id="858" name="Oval 113"/>
                <p:cNvSpPr/>
                <p:nvPr/>
              </p:nvSpPr>
              <p:spPr>
                <a:xfrm>
                  <a:off x="8524800" y="517860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59" name="Picture 11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552160" y="522000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0" name="Group 202"/>
              <p:cNvGrpSpPr/>
              <p:nvPr/>
            </p:nvGrpSpPr>
            <p:grpSpPr>
              <a:xfrm>
                <a:off x="8524800" y="5405760"/>
                <a:ext cx="184680" cy="184320"/>
                <a:chOff x="8524800" y="5405760"/>
                <a:chExt cx="184680" cy="184320"/>
              </a:xfrm>
            </p:grpSpPr>
            <p:sp>
              <p:nvSpPr>
                <p:cNvPr id="861" name="Oval 111"/>
                <p:cNvSpPr/>
                <p:nvPr/>
              </p:nvSpPr>
              <p:spPr>
                <a:xfrm>
                  <a:off x="8524800" y="54057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2" name="Picture 11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552160" y="5447880"/>
                  <a:ext cx="130320" cy="7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3" name="Group 203"/>
              <p:cNvGrpSpPr/>
              <p:nvPr/>
            </p:nvGrpSpPr>
            <p:grpSpPr>
              <a:xfrm>
                <a:off x="8524800" y="5924160"/>
                <a:ext cx="184680" cy="184320"/>
                <a:chOff x="8524800" y="5924160"/>
                <a:chExt cx="184680" cy="184320"/>
              </a:xfrm>
            </p:grpSpPr>
            <p:sp>
              <p:nvSpPr>
                <p:cNvPr id="864" name="Oval 109"/>
                <p:cNvSpPr/>
                <p:nvPr/>
              </p:nvSpPr>
              <p:spPr>
                <a:xfrm>
                  <a:off x="8524800" y="59241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5" name="Picture 11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552160" y="5968080"/>
                  <a:ext cx="13032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6" name="Group 204"/>
              <p:cNvGrpSpPr/>
              <p:nvPr/>
            </p:nvGrpSpPr>
            <p:grpSpPr>
              <a:xfrm>
                <a:off x="8524800" y="5683320"/>
                <a:ext cx="184680" cy="184320"/>
                <a:chOff x="8524800" y="5683320"/>
                <a:chExt cx="184680" cy="184320"/>
              </a:xfrm>
            </p:grpSpPr>
            <p:sp>
              <p:nvSpPr>
                <p:cNvPr id="867" name="Oval 107"/>
                <p:cNvSpPr/>
                <p:nvPr/>
              </p:nvSpPr>
              <p:spPr>
                <a:xfrm>
                  <a:off x="8524800" y="568332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8552160" y="572436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9" name="Group 196"/>
            <p:cNvGrpSpPr/>
            <p:nvPr/>
          </p:nvGrpSpPr>
          <p:grpSpPr>
            <a:xfrm>
              <a:off x="8005680" y="6156000"/>
              <a:ext cx="862200" cy="862200"/>
              <a:chOff x="8005680" y="6156000"/>
              <a:chExt cx="862200" cy="862200"/>
            </a:xfrm>
          </p:grpSpPr>
          <p:sp>
            <p:nvSpPr>
              <p:cNvPr id="870" name="Oval 99"/>
              <p:cNvSpPr/>
              <p:nvPr/>
            </p:nvSpPr>
            <p:spPr>
              <a:xfrm>
                <a:off x="8005680" y="6156000"/>
                <a:ext cx="862200" cy="8622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Cube 100"/>
              <p:cNvSpPr/>
              <p:nvPr/>
            </p:nvSpPr>
            <p:spPr>
              <a:xfrm>
                <a:off x="8124480" y="6319440"/>
                <a:ext cx="594000" cy="326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01"/>
              <p:cNvSpPr/>
              <p:nvPr/>
            </p:nvSpPr>
            <p:spPr>
              <a:xfrm>
                <a:off x="8243640" y="6360840"/>
                <a:ext cx="355680" cy="15228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" name="Snip Diagonal Corner Rectangle 117"/>
          <p:cNvSpPr/>
          <p:nvPr/>
        </p:nvSpPr>
        <p:spPr>
          <a:xfrm rot="2521200">
            <a:off x="4359240" y="4952880"/>
            <a:ext cx="930240" cy="3461040"/>
          </a:xfrm>
          <a:prstGeom prst="pie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Shape 109"/>
          <p:cNvCxnSpPr>
            <a:endCxn id="875" idx="2"/>
          </p:cNvCxnSpPr>
          <p:nvPr/>
        </p:nvCxnSpPr>
        <p:spPr>
          <a:xfrm flipH="1" rot="16200000">
            <a:off x="4678920" y="5068440"/>
            <a:ext cx="276840" cy="12646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76" name="Shape 60"/>
          <p:cNvCxnSpPr/>
          <p:nvPr/>
        </p:nvCxnSpPr>
        <p:spPr>
          <a:xfrm>
            <a:off x="2641320" y="5638680"/>
            <a:ext cx="2910240" cy="339120"/>
          </a:xfrm>
          <a:prstGeom prst="bentConnector3">
            <a:avLst>
              <a:gd name="adj1" fmla="val 23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875" name="Cube 120"/>
          <p:cNvSpPr/>
          <p:nvPr/>
        </p:nvSpPr>
        <p:spPr>
          <a:xfrm>
            <a:off x="5450040" y="5391000"/>
            <a:ext cx="1523880" cy="838440"/>
          </a:xfrm>
          <a:prstGeom prst="cube">
            <a:avLst>
              <a:gd name="adj" fmla="val 6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21"/>
          <p:cNvSpPr/>
          <p:nvPr/>
        </p:nvSpPr>
        <p:spPr>
          <a:xfrm>
            <a:off x="5754600" y="5497560"/>
            <a:ext cx="914400" cy="39060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11"/>
          <p:cNvSpPr/>
          <p:nvPr/>
        </p:nvSpPr>
        <p:spPr>
          <a:xfrm>
            <a:off x="165240" y="6637320"/>
            <a:ext cx="4559040" cy="15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4"/>
          <p:cNvSpPr/>
          <p:nvPr/>
        </p:nvSpPr>
        <p:spPr>
          <a:xfrm>
            <a:off x="399960" y="7683480"/>
            <a:ext cx="4070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15"/>
          <p:cNvSpPr/>
          <p:nvPr/>
        </p:nvSpPr>
        <p:spPr>
          <a:xfrm>
            <a:off x="387360" y="7201080"/>
            <a:ext cx="4095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16"/>
          <p:cNvSpPr/>
          <p:nvPr/>
        </p:nvSpPr>
        <p:spPr>
          <a:xfrm>
            <a:off x="387360" y="6756480"/>
            <a:ext cx="2724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118"/>
          <p:cNvSpPr/>
          <p:nvPr/>
        </p:nvSpPr>
        <p:spPr>
          <a:xfrm>
            <a:off x="1031760" y="6572160"/>
            <a:ext cx="64764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119"/>
          <p:cNvSpPr/>
          <p:nvPr/>
        </p:nvSpPr>
        <p:spPr>
          <a:xfrm>
            <a:off x="3963960" y="657396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121"/>
          <p:cNvSpPr/>
          <p:nvPr/>
        </p:nvSpPr>
        <p:spPr>
          <a:xfrm>
            <a:off x="1771560" y="6564240"/>
            <a:ext cx="64764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122"/>
          <p:cNvSpPr/>
          <p:nvPr/>
        </p:nvSpPr>
        <p:spPr>
          <a:xfrm>
            <a:off x="1031760" y="6072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131"/>
          <p:cNvSpPr/>
          <p:nvPr/>
        </p:nvSpPr>
        <p:spPr>
          <a:xfrm>
            <a:off x="177156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132"/>
          <p:cNvSpPr/>
          <p:nvPr/>
        </p:nvSpPr>
        <p:spPr>
          <a:xfrm>
            <a:off x="328608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133"/>
          <p:cNvSpPr/>
          <p:nvPr/>
        </p:nvSpPr>
        <p:spPr>
          <a:xfrm>
            <a:off x="284040" y="6572160"/>
            <a:ext cx="64800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Box 134"/>
          <p:cNvSpPr/>
          <p:nvPr/>
        </p:nvSpPr>
        <p:spPr>
          <a:xfrm>
            <a:off x="284040" y="60739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35"/>
          <p:cNvSpPr/>
          <p:nvPr/>
        </p:nvSpPr>
        <p:spPr>
          <a:xfrm>
            <a:off x="3286080" y="656604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136"/>
          <p:cNvSpPr/>
          <p:nvPr/>
        </p:nvSpPr>
        <p:spPr>
          <a:xfrm>
            <a:off x="3962520" y="6089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137"/>
          <p:cNvSpPr/>
          <p:nvPr/>
        </p:nvSpPr>
        <p:spPr>
          <a:xfrm>
            <a:off x="2465280" y="6562800"/>
            <a:ext cx="64620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Box 138"/>
          <p:cNvSpPr/>
          <p:nvPr/>
        </p:nvSpPr>
        <p:spPr>
          <a:xfrm>
            <a:off x="2465280" y="608184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39"/>
          <p:cNvSpPr/>
          <p:nvPr/>
        </p:nvSpPr>
        <p:spPr>
          <a:xfrm>
            <a:off x="1103400" y="28065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Handling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122"/>
          <p:cNvSpPr/>
          <p:nvPr/>
        </p:nvSpPr>
        <p:spPr>
          <a:xfrm>
            <a:off x="2060640" y="20844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Box 131"/>
          <p:cNvSpPr/>
          <p:nvPr/>
        </p:nvSpPr>
        <p:spPr>
          <a:xfrm>
            <a:off x="29145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Box 134"/>
          <p:cNvSpPr/>
          <p:nvPr/>
        </p:nvSpPr>
        <p:spPr>
          <a:xfrm>
            <a:off x="12621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06C-4C11-4FA8-B295-8691FB24C0D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Benefits of using SoA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mechanism for providing external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for workflow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non-proprietary framework for expressing service-based functionality and open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mazon Web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74840" y="2184480"/>
            <a:ext cx="3990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rastructure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yments &amp; Bi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mazon Fulfill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343040" y="2171520"/>
            <a:ext cx="441972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, Web &amp; Media Ho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up &amp; Sto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t Deliv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 Comp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581-428C-42FF-8B2E-00E811C4A20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865800" y="782316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vailable at: http://aws.amazon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Using the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er and establish free AWS accou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technical documentation for th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SLA and associated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AWS APIs and WSDL files for integration with your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 alternatives e.g. Goog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DBA-5313-4C53-9282-8DA7948742E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using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of infrastructure web services provides a factor of 10 saving cf. cost of ownership plus enables on-demand expan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se of building new web-based applications that can be quickly integrated with other 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494D-5AB8-4B4B-9AF3-3D6245A359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E778-F300-441B-8A3F-ABA84A38077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ch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 Study is based upon a a clea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ll benefit requires high level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oA maturity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changes the rules of competitio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gration is K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A71-ACB8-44F6-B52F-4E5B36E64DD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75F1-FF57-4B9B-A4E9-7EE534F24F7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service definitions are used to support 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the different approaches by which SoA was used to drive 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the Amazon Web Services can be used 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4DAE-A919-4091-A0C4-2EA8A339C63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re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s based interoperability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le integr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mazon 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ird party services via 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ED7-926A-4FA1-A920-5C56020B5D6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acle’s Enterprise SAIP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8" descr="academic enterprise"/>
          <p:cNvPicPr/>
          <p:nvPr/>
        </p:nvPicPr>
        <p:blipFill>
          <a:blip r:embed="rId1"/>
          <a:stretch/>
        </p:blipFill>
        <p:spPr>
          <a:xfrm>
            <a:off x="1001880" y="2068560"/>
            <a:ext cx="7062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2CF-E01A-4115-BACF-C90CD79E4F0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Information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51" name="Rectangle 103" descr=""/>
          <p:cNvPicPr/>
          <p:nvPr/>
        </p:nvPicPr>
        <p:blipFill>
          <a:blip r:embed="rId1"/>
          <a:stretch/>
        </p:blipFill>
        <p:spPr>
          <a:xfrm>
            <a:off x="633240" y="3333600"/>
            <a:ext cx="1586160" cy="4719960"/>
          </a:xfrm>
          <a:prstGeom prst="rect">
            <a:avLst/>
          </a:prstGeom>
          <a:ln w="0">
            <a:noFill/>
          </a:ln>
        </p:spPr>
      </p:pic>
      <p:pic>
        <p:nvPicPr>
          <p:cNvPr id="652" name="Rectangle 104" descr=""/>
          <p:cNvPicPr/>
          <p:nvPr/>
        </p:nvPicPr>
        <p:blipFill>
          <a:blip r:embed="rId2"/>
          <a:stretch/>
        </p:blipFill>
        <p:spPr>
          <a:xfrm>
            <a:off x="22622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3" name="Rectangle 105" descr=""/>
          <p:cNvPicPr/>
          <p:nvPr/>
        </p:nvPicPr>
        <p:blipFill>
          <a:blip r:embed="rId3"/>
          <a:stretch/>
        </p:blipFill>
        <p:spPr>
          <a:xfrm>
            <a:off x="38894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4" name="Rectangle 106" descr=""/>
          <p:cNvPicPr/>
          <p:nvPr/>
        </p:nvPicPr>
        <p:blipFill>
          <a:blip r:embed="rId4"/>
          <a:stretch/>
        </p:blipFill>
        <p:spPr>
          <a:xfrm>
            <a:off x="549900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107" descr=""/>
          <p:cNvPicPr/>
          <p:nvPr/>
        </p:nvPicPr>
        <p:blipFill>
          <a:blip r:embed="rId5"/>
          <a:stretch/>
        </p:blipFill>
        <p:spPr>
          <a:xfrm>
            <a:off x="7126200" y="3333600"/>
            <a:ext cx="1584360" cy="47199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8"/>
          <p:cNvSpPr/>
          <p:nvPr/>
        </p:nvSpPr>
        <p:spPr>
          <a:xfrm>
            <a:off x="635040" y="2362320"/>
            <a:ext cx="8064360" cy="88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k Data Exchange Managem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C53D-0AD0-45FD-A663-399E38907E8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3073320" y="4978440"/>
            <a:ext cx="2946600" cy="2349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nformation System (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222960" y="2286000"/>
            <a:ext cx="2565360" cy="1943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(L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507960" y="2286000"/>
            <a:ext cx="2565360" cy="1943280"/>
          </a:xfrm>
          <a:prstGeom prst="rect">
            <a:avLst/>
          </a:prstGeom>
          <a:solidFill>
            <a:srgbClr val="ebb3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2476440" y="4114800"/>
            <a:ext cx="419112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571680" y="5651640"/>
            <a:ext cx="135864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7213680" y="5651640"/>
            <a:ext cx="135900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3886200" y="2616120"/>
            <a:ext cx="1359000" cy="10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5"/>
          <p:cNvSpPr/>
          <p:nvPr/>
        </p:nvSpPr>
        <p:spPr>
          <a:xfrm>
            <a:off x="4229280" y="492768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7"/>
          <p:cNvSpPr/>
          <p:nvPr/>
        </p:nvSpPr>
        <p:spPr>
          <a:xfrm rot="16200000">
            <a:off x="568944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38"/>
          <p:cNvSpPr/>
          <p:nvPr/>
        </p:nvSpPr>
        <p:spPr>
          <a:xfrm rot="16200000">
            <a:off x="275580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Straight Arrow Connector 14"/>
          <p:cNvCxnSpPr>
            <a:stCxn id="666" idx="2"/>
            <a:endCxn id="660" idx="0"/>
          </p:cNvCxnSpPr>
          <p:nvPr/>
        </p:nvCxnSpPr>
        <p:spPr>
          <a:xfrm flipH="1">
            <a:off x="4545720" y="3645000"/>
            <a:ext cx="19800" cy="13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1" name="Straight Arrow Connector 19"/>
          <p:cNvCxnSpPr>
            <a:stCxn id="660" idx="3"/>
            <a:endCxn id="665" idx="1"/>
          </p:cNvCxnSpPr>
          <p:nvPr/>
        </p:nvCxnSpPr>
        <p:spPr>
          <a:xfrm>
            <a:off x="6019920" y="6152760"/>
            <a:ext cx="119448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2" name="Straight Arrow Connector 23"/>
          <p:cNvCxnSpPr>
            <a:stCxn id="664" idx="3"/>
            <a:endCxn id="660" idx="1"/>
          </p:cNvCxnSpPr>
          <p:nvPr/>
        </p:nvCxnSpPr>
        <p:spPr>
          <a:xfrm flipV="1">
            <a:off x="1929960" y="6152400"/>
            <a:ext cx="1143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3" name="Straight Arrow Connector 28"/>
          <p:cNvCxnSpPr>
            <a:stCxn id="662" idx="2"/>
            <a:endCxn id="660" idx="1"/>
          </p:cNvCxnSpPr>
          <p:nvPr/>
        </p:nvCxnSpPr>
        <p:spPr>
          <a:xfrm>
            <a:off x="1789560" y="4229280"/>
            <a:ext cx="128340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4" name="Straight Arrow Connector 31"/>
          <p:cNvCxnSpPr>
            <a:stCxn id="661" idx="2"/>
            <a:endCxn id="660" idx="3"/>
          </p:cNvCxnSpPr>
          <p:nvPr/>
        </p:nvCxnSpPr>
        <p:spPr>
          <a:xfrm flipH="1">
            <a:off x="6019200" y="4229280"/>
            <a:ext cx="148644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75" name="TextBox 39"/>
          <p:cNvSpPr/>
          <p:nvPr/>
        </p:nvSpPr>
        <p:spPr>
          <a:xfrm>
            <a:off x="6195960" y="782316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S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41"/>
          <p:cNvSpPr/>
          <p:nvPr/>
        </p:nvSpPr>
        <p:spPr>
          <a:xfrm flipH="1" flipV="1">
            <a:off x="5930640" y="7823160"/>
            <a:ext cx="266760" cy="262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32C-53A8-4A6A-80D7-A86FBE47A87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</a:t>
            </a: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of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351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voids having to create the equivalent proprietary Web Services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lear ROI based o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duced support/maintenance co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creased sales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articipation in broader co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E7F-3274-420B-9080-150A87E5DDE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Product Ready for Re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ypical scenarios for SMEs considering their next generation product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echnology renovation opport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prove interoper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ing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integration use-c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nification of set of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 third part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FC9B-D1A3-47E2-B336-C0F9B9507B5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Old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768840" y="6831000"/>
            <a:ext cx="4343400" cy="77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2587680" y="2808360"/>
            <a:ext cx="609120" cy="3200400"/>
            <a:chOff x="2587680" y="2808360"/>
            <a:chExt cx="609120" cy="3200400"/>
          </a:xfrm>
        </p:grpSpPr>
        <p:sp>
          <p:nvSpPr>
            <p:cNvPr id="690" name="Left Bracket 8"/>
            <p:cNvSpPr/>
            <p:nvPr/>
          </p:nvSpPr>
          <p:spPr>
            <a:xfrm>
              <a:off x="258768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eft Bracket 9"/>
            <p:cNvSpPr/>
            <p:nvPr/>
          </p:nvSpPr>
          <p:spPr>
            <a:xfrm flipH="1">
              <a:off x="289152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0"/>
          <p:cNvGrpSpPr/>
          <p:nvPr/>
        </p:nvGrpSpPr>
        <p:grpSpPr>
          <a:xfrm>
            <a:off x="3768840" y="2808360"/>
            <a:ext cx="609120" cy="3200400"/>
            <a:chOff x="3768840" y="2808360"/>
            <a:chExt cx="609120" cy="3200400"/>
          </a:xfrm>
        </p:grpSpPr>
        <p:sp>
          <p:nvSpPr>
            <p:cNvPr id="693" name="Left Bracket 11"/>
            <p:cNvSpPr/>
            <p:nvPr/>
          </p:nvSpPr>
          <p:spPr>
            <a:xfrm>
              <a:off x="376884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eft Bracket 12"/>
            <p:cNvSpPr/>
            <p:nvPr/>
          </p:nvSpPr>
          <p:spPr>
            <a:xfrm flipH="1">
              <a:off x="407268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3"/>
          <p:cNvGrpSpPr/>
          <p:nvPr/>
        </p:nvGrpSpPr>
        <p:grpSpPr>
          <a:xfrm>
            <a:off x="2397240" y="5208480"/>
            <a:ext cx="2209680" cy="2217240"/>
            <a:chOff x="2397240" y="5208480"/>
            <a:chExt cx="2209680" cy="2217240"/>
          </a:xfrm>
        </p:grpSpPr>
        <p:sp>
          <p:nvSpPr>
            <p:cNvPr id="696" name="Oval 14"/>
            <p:cNvSpPr/>
            <p:nvPr/>
          </p:nvSpPr>
          <p:spPr>
            <a:xfrm>
              <a:off x="2397240" y="5208480"/>
              <a:ext cx="2209680" cy="2210040"/>
            </a:xfrm>
            <a:prstGeom prst="ellips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ube 15"/>
            <p:cNvSpPr/>
            <p:nvPr/>
          </p:nvSpPr>
          <p:spPr>
            <a:xfrm>
              <a:off x="2701800" y="5627520"/>
              <a:ext cx="1523880" cy="838080"/>
            </a:xfrm>
            <a:prstGeom prst="cube">
              <a:avLst>
                <a:gd name="adj" fmla="val 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6"/>
            <p:cNvSpPr/>
            <p:nvPr/>
          </p:nvSpPr>
          <p:spPr>
            <a:xfrm>
              <a:off x="3006720" y="5779800"/>
              <a:ext cx="914400" cy="3808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7"/>
            <p:cNvSpPr/>
            <p:nvPr/>
          </p:nvSpPr>
          <p:spPr>
            <a:xfrm>
              <a:off x="3273480" y="5779800"/>
              <a:ext cx="380880" cy="228600"/>
            </a:xfrm>
            <a:prstGeom prst="rect">
              <a:avLst/>
            </a:prstGeom>
            <a:gradFill rotWithShape="0">
              <a:gsLst>
                <a:gs pos="0">
                  <a:srgbClr val="85ffdb"/>
                </a:gs>
                <a:gs pos="100000">
                  <a:srgbClr val="00eba8"/>
                </a:gs>
              </a:gsLst>
              <a:lin ang="5400000"/>
            </a:gradFill>
            <a:ln w="9360">
              <a:solidFill>
                <a:srgbClr val="00cc9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8"/>
            <p:cNvSpPr/>
            <p:nvPr/>
          </p:nvSpPr>
          <p:spPr>
            <a:xfrm>
              <a:off x="2912760" y="6478560"/>
              <a:ext cx="126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19"/>
          <p:cNvGrpSpPr/>
          <p:nvPr/>
        </p:nvGrpSpPr>
        <p:grpSpPr>
          <a:xfrm>
            <a:off x="5932440" y="4896000"/>
            <a:ext cx="932040" cy="2104920"/>
            <a:chOff x="5932440" y="4896000"/>
            <a:chExt cx="932040" cy="2104920"/>
          </a:xfrm>
        </p:grpSpPr>
        <p:grpSp>
          <p:nvGrpSpPr>
            <p:cNvPr id="702" name="Group 64"/>
            <p:cNvGrpSpPr/>
            <p:nvPr/>
          </p:nvGrpSpPr>
          <p:grpSpPr>
            <a:xfrm>
              <a:off x="6256800" y="4896000"/>
              <a:ext cx="351360" cy="1388160"/>
              <a:chOff x="6256800" y="4896000"/>
              <a:chExt cx="351360" cy="1388160"/>
            </a:xfrm>
          </p:grpSpPr>
          <p:grpSp>
            <p:nvGrpSpPr>
              <p:cNvPr id="703" name="Group 49"/>
              <p:cNvGrpSpPr/>
              <p:nvPr/>
            </p:nvGrpSpPr>
            <p:grpSpPr>
              <a:xfrm>
                <a:off x="6256800" y="4896000"/>
                <a:ext cx="263880" cy="1388160"/>
                <a:chOff x="6256800" y="4896000"/>
                <a:chExt cx="263880" cy="1388160"/>
              </a:xfrm>
            </p:grpSpPr>
            <p:sp>
              <p:nvSpPr>
                <p:cNvPr id="704" name="Left Bracket 39"/>
                <p:cNvSpPr/>
                <p:nvPr/>
              </p:nvSpPr>
              <p:spPr>
                <a:xfrm>
                  <a:off x="6256800" y="4896000"/>
                  <a:ext cx="132840" cy="138816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8160"/>
                    <a:gd name="textAreaBottom" fmla="*/ 131832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7"/>
                        <a:pt x="0" y="2174"/>
                      </a:cubicBezTo>
                      <a:lnTo>
                        <a:pt x="0" y="19426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eft Bracket 40"/>
                <p:cNvSpPr/>
                <p:nvPr/>
              </p:nvSpPr>
              <p:spPr>
                <a:xfrm flipH="1">
                  <a:off x="6388920" y="4896000"/>
                  <a:ext cx="131400" cy="138816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8160"/>
                    <a:gd name="textAreaBottom" fmla="*/ 132120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52"/>
              <p:cNvGrpSpPr/>
              <p:nvPr/>
            </p:nvGrpSpPr>
            <p:grpSpPr>
              <a:xfrm>
                <a:off x="6433920" y="5037120"/>
                <a:ext cx="174240" cy="174240"/>
                <a:chOff x="6433920" y="5037120"/>
                <a:chExt cx="174240" cy="174240"/>
              </a:xfrm>
            </p:grpSpPr>
            <p:sp>
              <p:nvSpPr>
                <p:cNvPr id="707" name="Oval 37"/>
                <p:cNvSpPr/>
                <p:nvPr/>
              </p:nvSpPr>
              <p:spPr>
                <a:xfrm>
                  <a:off x="6433920" y="5037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8" name="Picture 38" descr=""/>
                <p:cNvPicPr/>
                <p:nvPr/>
              </p:nvPicPr>
              <p:blipFill>
                <a:blip r:embed="rId1"/>
                <a:stretch/>
              </p:blipFill>
              <p:spPr>
                <a:xfrm flipH="1" rot="10800000">
                  <a:off x="6459120" y="507600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9" name="Group 55"/>
              <p:cNvGrpSpPr/>
              <p:nvPr/>
            </p:nvGrpSpPr>
            <p:grpSpPr>
              <a:xfrm>
                <a:off x="6433920" y="5251680"/>
                <a:ext cx="174240" cy="174240"/>
                <a:chOff x="6433920" y="5251680"/>
                <a:chExt cx="174240" cy="174240"/>
              </a:xfrm>
            </p:grpSpPr>
            <p:sp>
              <p:nvSpPr>
                <p:cNvPr id="710" name="Oval 35"/>
                <p:cNvSpPr/>
                <p:nvPr/>
              </p:nvSpPr>
              <p:spPr>
                <a:xfrm>
                  <a:off x="6433920" y="52516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1" name="Picture 36" descr=""/>
                <p:cNvPicPr/>
                <p:nvPr/>
              </p:nvPicPr>
              <p:blipFill>
                <a:blip r:embed="rId2"/>
                <a:stretch/>
              </p:blipFill>
              <p:spPr>
                <a:xfrm flipH="1" rot="10800000">
                  <a:off x="6459120" y="52909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2" name="Group 58"/>
              <p:cNvGrpSpPr/>
              <p:nvPr/>
            </p:nvGrpSpPr>
            <p:grpSpPr>
              <a:xfrm>
                <a:off x="6433920" y="5741640"/>
                <a:ext cx="174240" cy="174240"/>
                <a:chOff x="6433920" y="5741640"/>
                <a:chExt cx="174240" cy="174240"/>
              </a:xfrm>
            </p:grpSpPr>
            <p:sp>
              <p:nvSpPr>
                <p:cNvPr id="713" name="Oval 33"/>
                <p:cNvSpPr/>
                <p:nvPr/>
              </p:nvSpPr>
              <p:spPr>
                <a:xfrm>
                  <a:off x="6433920" y="574164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4" name="Picture 34" descr="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6459120" y="57801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5" name="Group 61"/>
              <p:cNvGrpSpPr/>
              <p:nvPr/>
            </p:nvGrpSpPr>
            <p:grpSpPr>
              <a:xfrm>
                <a:off x="6433920" y="5514120"/>
                <a:ext cx="174240" cy="174240"/>
                <a:chOff x="6433920" y="5514120"/>
                <a:chExt cx="174240" cy="174240"/>
              </a:xfrm>
            </p:grpSpPr>
            <p:sp>
              <p:nvSpPr>
                <p:cNvPr id="716" name="Oval 31"/>
                <p:cNvSpPr/>
                <p:nvPr/>
              </p:nvSpPr>
              <p:spPr>
                <a:xfrm>
                  <a:off x="6433920" y="5514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7" name="Picture 32" descr=""/>
                <p:cNvPicPr/>
                <p:nvPr/>
              </p:nvPicPr>
              <p:blipFill>
                <a:blip r:embed="rId4"/>
                <a:stretch/>
              </p:blipFill>
              <p:spPr>
                <a:xfrm flipH="1" rot="10800000">
                  <a:off x="6459120" y="554868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18" name="Group 13"/>
            <p:cNvGrpSpPr/>
            <p:nvPr/>
          </p:nvGrpSpPr>
          <p:grpSpPr>
            <a:xfrm>
              <a:off x="5932440" y="6067800"/>
              <a:ext cx="932040" cy="933120"/>
              <a:chOff x="5932440" y="6067800"/>
              <a:chExt cx="932040" cy="933120"/>
            </a:xfrm>
          </p:grpSpPr>
          <p:sp>
            <p:nvSpPr>
              <p:cNvPr id="719" name="Oval 22"/>
              <p:cNvSpPr/>
              <p:nvPr/>
            </p:nvSpPr>
            <p:spPr>
              <a:xfrm>
                <a:off x="5932440" y="6067800"/>
                <a:ext cx="932040" cy="93312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Cube 23"/>
              <p:cNvSpPr/>
              <p:nvPr/>
            </p:nvSpPr>
            <p:spPr>
              <a:xfrm>
                <a:off x="6060960" y="6245280"/>
                <a:ext cx="642960" cy="353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24"/>
              <p:cNvSpPr/>
              <p:nvPr/>
            </p:nvSpPr>
            <p:spPr>
              <a:xfrm>
                <a:off x="6189480" y="630900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25"/>
              <p:cNvSpPr/>
              <p:nvPr/>
            </p:nvSpPr>
            <p:spPr>
              <a:xfrm>
                <a:off x="6302520" y="630900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TextBox 22"/>
          <p:cNvSpPr/>
          <p:nvPr/>
        </p:nvSpPr>
        <p:spPr>
          <a:xfrm>
            <a:off x="2329920" y="21938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23"/>
          <p:cNvSpPr/>
          <p:nvPr/>
        </p:nvSpPr>
        <p:spPr>
          <a:xfrm>
            <a:off x="3271320" y="4022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27"/>
          <p:cNvGrpSpPr/>
          <p:nvPr/>
        </p:nvGrpSpPr>
        <p:grpSpPr>
          <a:xfrm>
            <a:off x="2387520" y="3182760"/>
            <a:ext cx="401760" cy="401760"/>
            <a:chOff x="2387520" y="3182760"/>
            <a:chExt cx="401760" cy="401760"/>
          </a:xfrm>
        </p:grpSpPr>
        <p:sp>
          <p:nvSpPr>
            <p:cNvPr id="726" name="Oval 24"/>
            <p:cNvSpPr/>
            <p:nvPr/>
          </p:nvSpPr>
          <p:spPr>
            <a:xfrm>
              <a:off x="2387520" y="318276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7" name="Picture 25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446920" y="32720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28"/>
          <p:cNvGrpSpPr/>
          <p:nvPr/>
        </p:nvGrpSpPr>
        <p:grpSpPr>
          <a:xfrm>
            <a:off x="2387520" y="3678120"/>
            <a:ext cx="401760" cy="401760"/>
            <a:chOff x="2387520" y="3678120"/>
            <a:chExt cx="401760" cy="401760"/>
          </a:xfrm>
        </p:grpSpPr>
        <p:sp>
          <p:nvSpPr>
            <p:cNvPr id="729" name="Oval 29"/>
            <p:cNvSpPr/>
            <p:nvPr/>
          </p:nvSpPr>
          <p:spPr>
            <a:xfrm>
              <a:off x="2387520" y="367812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" name="Picture 30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2446920" y="376740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31"/>
          <p:cNvGrpSpPr/>
          <p:nvPr/>
        </p:nvGrpSpPr>
        <p:grpSpPr>
          <a:xfrm>
            <a:off x="2387520" y="4807080"/>
            <a:ext cx="401760" cy="401400"/>
            <a:chOff x="2387520" y="4807080"/>
            <a:chExt cx="401760" cy="401400"/>
          </a:xfrm>
        </p:grpSpPr>
        <p:sp>
          <p:nvSpPr>
            <p:cNvPr id="732" name="Oval 32"/>
            <p:cNvSpPr/>
            <p:nvPr/>
          </p:nvSpPr>
          <p:spPr>
            <a:xfrm>
              <a:off x="2387520" y="480708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Picture 33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2446920" y="489636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34"/>
          <p:cNvGrpSpPr/>
          <p:nvPr/>
        </p:nvGrpSpPr>
        <p:grpSpPr>
          <a:xfrm>
            <a:off x="2387520" y="4281480"/>
            <a:ext cx="401760" cy="403200"/>
            <a:chOff x="2387520" y="4281480"/>
            <a:chExt cx="401760" cy="403200"/>
          </a:xfrm>
        </p:grpSpPr>
        <p:sp>
          <p:nvSpPr>
            <p:cNvPr id="735" name="Oval 35"/>
            <p:cNvSpPr/>
            <p:nvPr/>
          </p:nvSpPr>
          <p:spPr>
            <a:xfrm>
              <a:off x="2387520" y="428148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Picture 36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2446920" y="437112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Group 37"/>
          <p:cNvGrpSpPr/>
          <p:nvPr/>
        </p:nvGrpSpPr>
        <p:grpSpPr>
          <a:xfrm>
            <a:off x="4178160" y="3133800"/>
            <a:ext cx="401760" cy="403200"/>
            <a:chOff x="4178160" y="3133800"/>
            <a:chExt cx="401760" cy="403200"/>
          </a:xfrm>
        </p:grpSpPr>
        <p:sp>
          <p:nvSpPr>
            <p:cNvPr id="738" name="Oval 38"/>
            <p:cNvSpPr/>
            <p:nvPr/>
          </p:nvSpPr>
          <p:spPr>
            <a:xfrm>
              <a:off x="4178160" y="313380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9" name="Picture 39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4237560" y="322344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40"/>
          <p:cNvGrpSpPr/>
          <p:nvPr/>
        </p:nvGrpSpPr>
        <p:grpSpPr>
          <a:xfrm>
            <a:off x="4178160" y="3629160"/>
            <a:ext cx="401760" cy="401400"/>
            <a:chOff x="4178160" y="3629160"/>
            <a:chExt cx="401760" cy="401400"/>
          </a:xfrm>
        </p:grpSpPr>
        <p:sp>
          <p:nvSpPr>
            <p:cNvPr id="741" name="Oval 41"/>
            <p:cNvSpPr/>
            <p:nvPr/>
          </p:nvSpPr>
          <p:spPr>
            <a:xfrm>
              <a:off x="4178160" y="36291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Picture 42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4237560" y="37184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Group 43"/>
          <p:cNvGrpSpPr/>
          <p:nvPr/>
        </p:nvGrpSpPr>
        <p:grpSpPr>
          <a:xfrm>
            <a:off x="4178160" y="4757760"/>
            <a:ext cx="401760" cy="403200"/>
            <a:chOff x="4178160" y="4757760"/>
            <a:chExt cx="401760" cy="403200"/>
          </a:xfrm>
        </p:grpSpPr>
        <p:sp>
          <p:nvSpPr>
            <p:cNvPr id="744" name="Oval 44"/>
            <p:cNvSpPr/>
            <p:nvPr/>
          </p:nvSpPr>
          <p:spPr>
            <a:xfrm>
              <a:off x="4178160" y="475776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5" name="Picture 45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4237560" y="484740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46"/>
          <p:cNvGrpSpPr/>
          <p:nvPr/>
        </p:nvGrpSpPr>
        <p:grpSpPr>
          <a:xfrm>
            <a:off x="4178160" y="4233960"/>
            <a:ext cx="401760" cy="401400"/>
            <a:chOff x="4178160" y="4233960"/>
            <a:chExt cx="401760" cy="401400"/>
          </a:xfrm>
        </p:grpSpPr>
        <p:sp>
          <p:nvSpPr>
            <p:cNvPr id="747" name="Oval 47"/>
            <p:cNvSpPr/>
            <p:nvPr/>
          </p:nvSpPr>
          <p:spPr>
            <a:xfrm>
              <a:off x="4178160" y="42339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Picture 48" descr=""/>
            <p:cNvPicPr/>
            <p:nvPr/>
          </p:nvPicPr>
          <p:blipFill>
            <a:blip r:embed="rId12"/>
            <a:stretch/>
          </p:blipFill>
          <p:spPr>
            <a:xfrm flipH="1" rot="10800000">
              <a:off x="4237560" y="43232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9" name="Group 67"/>
          <p:cNvGrpSpPr/>
          <p:nvPr/>
        </p:nvGrpSpPr>
        <p:grpSpPr>
          <a:xfrm>
            <a:off x="7502400" y="5472000"/>
            <a:ext cx="933480" cy="2103480"/>
            <a:chOff x="7502400" y="5472000"/>
            <a:chExt cx="933480" cy="2103480"/>
          </a:xfrm>
        </p:grpSpPr>
        <p:grpSp>
          <p:nvGrpSpPr>
            <p:cNvPr id="750" name="Group 67"/>
            <p:cNvGrpSpPr/>
            <p:nvPr/>
          </p:nvGrpSpPr>
          <p:grpSpPr>
            <a:xfrm>
              <a:off x="7827120" y="5472000"/>
              <a:ext cx="351720" cy="1387440"/>
              <a:chOff x="7827120" y="5472000"/>
              <a:chExt cx="351720" cy="1387440"/>
            </a:xfrm>
          </p:grpSpPr>
          <p:grpSp>
            <p:nvGrpSpPr>
              <p:cNvPr id="751" name="Group 74"/>
              <p:cNvGrpSpPr/>
              <p:nvPr/>
            </p:nvGrpSpPr>
            <p:grpSpPr>
              <a:xfrm>
                <a:off x="7827120" y="5472000"/>
                <a:ext cx="264600" cy="1387440"/>
                <a:chOff x="7827120" y="5472000"/>
                <a:chExt cx="264600" cy="1387440"/>
              </a:xfrm>
            </p:grpSpPr>
            <p:sp>
              <p:nvSpPr>
                <p:cNvPr id="752" name="Left Bracket 87"/>
                <p:cNvSpPr/>
                <p:nvPr/>
              </p:nvSpPr>
              <p:spPr>
                <a:xfrm>
                  <a:off x="7827120" y="5472000"/>
                  <a:ext cx="132120" cy="1387440"/>
                </a:xfrm>
                <a:custGeom>
                  <a:avLst/>
                  <a:gdLst>
                    <a:gd name="textAreaLeft" fmla="*/ 38880 w 132120"/>
                    <a:gd name="textAreaRight" fmla="*/ 132480 w 132120"/>
                    <a:gd name="textAreaTop" fmla="*/ 68760 h 1387440"/>
                    <a:gd name="textAreaBottom" fmla="*/ 13186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3"/>
                        <a:pt x="0" y="2146"/>
                      </a:cubicBezTo>
                      <a:lnTo>
                        <a:pt x="0" y="19454"/>
                      </a:lnTo>
                      <a:cubicBezTo>
                        <a:pt x="0" y="20527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eft Bracket 88"/>
                <p:cNvSpPr/>
                <p:nvPr/>
              </p:nvSpPr>
              <p:spPr>
                <a:xfrm flipH="1">
                  <a:off x="7959240" y="5472000"/>
                  <a:ext cx="132480" cy="1387440"/>
                </a:xfrm>
                <a:custGeom>
                  <a:avLst/>
                  <a:gdLst>
                    <a:gd name="textAreaLeft" fmla="*/ 39240 w 132480"/>
                    <a:gd name="textAreaRight" fmla="*/ 133200 w 132480"/>
                    <a:gd name="textAreaTop" fmla="*/ 66600 h 1387440"/>
                    <a:gd name="textAreaBottom" fmla="*/ 132084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1"/>
                        <a:pt x="0" y="2082"/>
                      </a:cubicBezTo>
                      <a:lnTo>
                        <a:pt x="0" y="19518"/>
                      </a:lnTo>
                      <a:cubicBezTo>
                        <a:pt x="0" y="20559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75"/>
              <p:cNvGrpSpPr/>
              <p:nvPr/>
            </p:nvGrpSpPr>
            <p:grpSpPr>
              <a:xfrm>
                <a:off x="8004240" y="5613120"/>
                <a:ext cx="174600" cy="174240"/>
                <a:chOff x="8004240" y="5613120"/>
                <a:chExt cx="174600" cy="174240"/>
              </a:xfrm>
            </p:grpSpPr>
            <p:sp>
              <p:nvSpPr>
                <p:cNvPr id="755" name="Oval 85"/>
                <p:cNvSpPr/>
                <p:nvPr/>
              </p:nvSpPr>
              <p:spPr>
                <a:xfrm>
                  <a:off x="8004240" y="561312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6" name="Picture 86" descr=""/>
                <p:cNvPicPr/>
                <p:nvPr/>
              </p:nvPicPr>
              <p:blipFill>
                <a:blip r:embed="rId13"/>
                <a:stretch/>
              </p:blipFill>
              <p:spPr>
                <a:xfrm flipH="1" rot="10800000">
                  <a:off x="8030520" y="5651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7" name="Group 76"/>
              <p:cNvGrpSpPr/>
              <p:nvPr/>
            </p:nvGrpSpPr>
            <p:grpSpPr>
              <a:xfrm>
                <a:off x="8004240" y="5827680"/>
                <a:ext cx="174600" cy="174240"/>
                <a:chOff x="8004240" y="5827680"/>
                <a:chExt cx="174600" cy="174240"/>
              </a:xfrm>
            </p:grpSpPr>
            <p:sp>
              <p:nvSpPr>
                <p:cNvPr id="758" name="Oval 83"/>
                <p:cNvSpPr/>
                <p:nvPr/>
              </p:nvSpPr>
              <p:spPr>
                <a:xfrm>
                  <a:off x="8004240" y="58276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9" name="Picture 8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030520" y="586656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0" name="Group 77"/>
              <p:cNvGrpSpPr/>
              <p:nvPr/>
            </p:nvGrpSpPr>
            <p:grpSpPr>
              <a:xfrm>
                <a:off x="8004240" y="6317280"/>
                <a:ext cx="174600" cy="174240"/>
                <a:chOff x="8004240" y="6317280"/>
                <a:chExt cx="174600" cy="174240"/>
              </a:xfrm>
            </p:grpSpPr>
            <p:sp>
              <p:nvSpPr>
                <p:cNvPr id="761" name="Oval 81"/>
                <p:cNvSpPr/>
                <p:nvPr/>
              </p:nvSpPr>
              <p:spPr>
                <a:xfrm>
                  <a:off x="8004240" y="63172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2" name="Picture 8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030520" y="635652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3" name="Group 78"/>
              <p:cNvGrpSpPr/>
              <p:nvPr/>
            </p:nvGrpSpPr>
            <p:grpSpPr>
              <a:xfrm>
                <a:off x="8004240" y="6089760"/>
                <a:ext cx="174600" cy="174240"/>
                <a:chOff x="8004240" y="6089760"/>
                <a:chExt cx="174600" cy="174240"/>
              </a:xfrm>
            </p:grpSpPr>
            <p:sp>
              <p:nvSpPr>
                <p:cNvPr id="764" name="Oval 79"/>
                <p:cNvSpPr/>
                <p:nvPr/>
              </p:nvSpPr>
              <p:spPr>
                <a:xfrm>
                  <a:off x="8004240" y="608976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5" name="Picture 8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030520" y="6128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66" name="Group 68"/>
            <p:cNvGrpSpPr/>
            <p:nvPr/>
          </p:nvGrpSpPr>
          <p:grpSpPr>
            <a:xfrm>
              <a:off x="7502400" y="6643080"/>
              <a:ext cx="933480" cy="932400"/>
              <a:chOff x="7502400" y="6643080"/>
              <a:chExt cx="933480" cy="932400"/>
            </a:xfrm>
          </p:grpSpPr>
          <p:sp>
            <p:nvSpPr>
              <p:cNvPr id="767" name="Oval 70"/>
              <p:cNvSpPr/>
              <p:nvPr/>
            </p:nvSpPr>
            <p:spPr>
              <a:xfrm>
                <a:off x="7502400" y="6643080"/>
                <a:ext cx="93348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Cube 71"/>
              <p:cNvSpPr/>
              <p:nvPr/>
            </p:nvSpPr>
            <p:spPr>
              <a:xfrm>
                <a:off x="7630920" y="6819120"/>
                <a:ext cx="6447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72"/>
              <p:cNvSpPr/>
              <p:nvPr/>
            </p:nvSpPr>
            <p:spPr>
              <a:xfrm>
                <a:off x="7759440" y="6884280"/>
                <a:ext cx="38736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73"/>
              <p:cNvSpPr/>
              <p:nvPr/>
            </p:nvSpPr>
            <p:spPr>
              <a:xfrm>
                <a:off x="7872120" y="6884280"/>
                <a:ext cx="16164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1" name="Group 89"/>
          <p:cNvGrpSpPr/>
          <p:nvPr/>
        </p:nvGrpSpPr>
        <p:grpSpPr>
          <a:xfrm>
            <a:off x="4809960" y="5929200"/>
            <a:ext cx="932040" cy="2103480"/>
            <a:chOff x="4809960" y="5929200"/>
            <a:chExt cx="932040" cy="2103480"/>
          </a:xfrm>
        </p:grpSpPr>
        <p:grpSp>
          <p:nvGrpSpPr>
            <p:cNvPr id="772" name="Group 91"/>
            <p:cNvGrpSpPr/>
            <p:nvPr/>
          </p:nvGrpSpPr>
          <p:grpSpPr>
            <a:xfrm>
              <a:off x="5134320" y="5929200"/>
              <a:ext cx="351360" cy="1387440"/>
              <a:chOff x="5134320" y="5929200"/>
              <a:chExt cx="351360" cy="1387440"/>
            </a:xfrm>
          </p:grpSpPr>
          <p:grpSp>
            <p:nvGrpSpPr>
              <p:cNvPr id="773" name="Group 97"/>
              <p:cNvGrpSpPr/>
              <p:nvPr/>
            </p:nvGrpSpPr>
            <p:grpSpPr>
              <a:xfrm>
                <a:off x="5134320" y="5929200"/>
                <a:ext cx="263880" cy="1387440"/>
                <a:chOff x="5134320" y="5929200"/>
                <a:chExt cx="263880" cy="1387440"/>
              </a:xfrm>
            </p:grpSpPr>
            <p:sp>
              <p:nvSpPr>
                <p:cNvPr id="774" name="Left Bracket 109"/>
                <p:cNvSpPr/>
                <p:nvPr/>
              </p:nvSpPr>
              <p:spPr>
                <a:xfrm>
                  <a:off x="5134320" y="5929200"/>
                  <a:ext cx="132840" cy="138744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7440"/>
                    <a:gd name="textAreaBottom" fmla="*/ 131760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8"/>
                        <a:pt x="0" y="2175"/>
                      </a:cubicBezTo>
                      <a:lnTo>
                        <a:pt x="0" y="19425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eft Bracket 110"/>
                <p:cNvSpPr/>
                <p:nvPr/>
              </p:nvSpPr>
              <p:spPr>
                <a:xfrm flipH="1">
                  <a:off x="5266440" y="5929200"/>
                  <a:ext cx="131400" cy="138744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7440"/>
                    <a:gd name="textAreaBottom" fmla="*/ 13204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Group 98"/>
              <p:cNvGrpSpPr/>
              <p:nvPr/>
            </p:nvGrpSpPr>
            <p:grpSpPr>
              <a:xfrm>
                <a:off x="5311440" y="6070320"/>
                <a:ext cx="174240" cy="174240"/>
                <a:chOff x="5311440" y="6070320"/>
                <a:chExt cx="174240" cy="174240"/>
              </a:xfrm>
            </p:grpSpPr>
            <p:sp>
              <p:nvSpPr>
                <p:cNvPr id="777" name="Oval 107"/>
                <p:cNvSpPr/>
                <p:nvPr/>
              </p:nvSpPr>
              <p:spPr>
                <a:xfrm>
                  <a:off x="5311440" y="60703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7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5336640" y="6108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9" name="Group 99"/>
              <p:cNvGrpSpPr/>
              <p:nvPr/>
            </p:nvGrpSpPr>
            <p:grpSpPr>
              <a:xfrm>
                <a:off x="5311440" y="6284880"/>
                <a:ext cx="174240" cy="174240"/>
                <a:chOff x="5311440" y="6284880"/>
                <a:chExt cx="174240" cy="174240"/>
              </a:xfrm>
            </p:grpSpPr>
            <p:sp>
              <p:nvSpPr>
                <p:cNvPr id="780" name="Oval 105"/>
                <p:cNvSpPr/>
                <p:nvPr/>
              </p:nvSpPr>
              <p:spPr>
                <a:xfrm>
                  <a:off x="5311440" y="62848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1" name="Picture 106" descr=""/>
                <p:cNvPicPr/>
                <p:nvPr/>
              </p:nvPicPr>
              <p:blipFill>
                <a:blip r:embed="rId18"/>
                <a:stretch/>
              </p:blipFill>
              <p:spPr>
                <a:xfrm flipH="1" rot="10800000">
                  <a:off x="5336640" y="63237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2" name="Group 100"/>
              <p:cNvGrpSpPr/>
              <p:nvPr/>
            </p:nvGrpSpPr>
            <p:grpSpPr>
              <a:xfrm>
                <a:off x="5311440" y="6774480"/>
                <a:ext cx="174240" cy="174240"/>
                <a:chOff x="5311440" y="6774480"/>
                <a:chExt cx="174240" cy="174240"/>
              </a:xfrm>
            </p:grpSpPr>
            <p:sp>
              <p:nvSpPr>
                <p:cNvPr id="783" name="Oval 103"/>
                <p:cNvSpPr/>
                <p:nvPr/>
              </p:nvSpPr>
              <p:spPr>
                <a:xfrm>
                  <a:off x="5311440" y="67744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4" name="Picture 104" descr=""/>
                <p:cNvPicPr/>
                <p:nvPr/>
              </p:nvPicPr>
              <p:blipFill>
                <a:blip r:embed="rId19"/>
                <a:stretch/>
              </p:blipFill>
              <p:spPr>
                <a:xfrm flipH="1" rot="10800000">
                  <a:off x="5336640" y="68137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5" name="Group 101"/>
              <p:cNvGrpSpPr/>
              <p:nvPr/>
            </p:nvGrpSpPr>
            <p:grpSpPr>
              <a:xfrm>
                <a:off x="5311440" y="6546960"/>
                <a:ext cx="174240" cy="174240"/>
                <a:chOff x="5311440" y="6546960"/>
                <a:chExt cx="174240" cy="174240"/>
              </a:xfrm>
            </p:grpSpPr>
            <p:sp>
              <p:nvSpPr>
                <p:cNvPr id="786" name="Oval 101"/>
                <p:cNvSpPr/>
                <p:nvPr/>
              </p:nvSpPr>
              <p:spPr>
                <a:xfrm>
                  <a:off x="5311440" y="654696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7" name="Picture 102" descr=""/>
                <p:cNvPicPr/>
                <p:nvPr/>
              </p:nvPicPr>
              <p:blipFill>
                <a:blip r:embed="rId20"/>
                <a:stretch/>
              </p:blipFill>
              <p:spPr>
                <a:xfrm flipH="1" rot="10800000">
                  <a:off x="5336640" y="6585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88" name="Group 92"/>
            <p:cNvGrpSpPr/>
            <p:nvPr/>
          </p:nvGrpSpPr>
          <p:grpSpPr>
            <a:xfrm>
              <a:off x="4809960" y="7100280"/>
              <a:ext cx="932040" cy="932400"/>
              <a:chOff x="4809960" y="7100280"/>
              <a:chExt cx="932040" cy="932400"/>
            </a:xfrm>
          </p:grpSpPr>
          <p:sp>
            <p:nvSpPr>
              <p:cNvPr id="789" name="Oval 92"/>
              <p:cNvSpPr/>
              <p:nvPr/>
            </p:nvSpPr>
            <p:spPr>
              <a:xfrm>
                <a:off x="4809960" y="7100280"/>
                <a:ext cx="93204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Cube 93"/>
              <p:cNvSpPr/>
              <p:nvPr/>
            </p:nvSpPr>
            <p:spPr>
              <a:xfrm>
                <a:off x="4938480" y="7276320"/>
                <a:ext cx="6429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94"/>
              <p:cNvSpPr/>
              <p:nvPr/>
            </p:nvSpPr>
            <p:spPr>
              <a:xfrm>
                <a:off x="5067000" y="734148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95"/>
              <p:cNvSpPr/>
              <p:nvPr/>
            </p:nvSpPr>
            <p:spPr>
              <a:xfrm>
                <a:off x="5180040" y="734148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TextBox 111"/>
          <p:cNvSpPr/>
          <p:nvPr/>
        </p:nvSpPr>
        <p:spPr>
          <a:xfrm>
            <a:off x="5799240" y="766908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112" descr=""/>
          <p:cNvPicPr/>
          <p:nvPr/>
        </p:nvPicPr>
        <p:blipFill>
          <a:blip r:embed="rId21"/>
          <a:stretch/>
        </p:blipFill>
        <p:spPr>
          <a:xfrm>
            <a:off x="1025640" y="4896000"/>
            <a:ext cx="825480" cy="901440"/>
          </a:xfrm>
          <a:prstGeom prst="rect">
            <a:avLst/>
          </a:prstGeom>
          <a:ln w="0">
            <a:noFill/>
          </a:ln>
        </p:spPr>
      </p:pic>
      <p:cxnSp>
        <p:nvCxnSpPr>
          <p:cNvPr id="795" name="Shape 113"/>
          <p:cNvCxnSpPr/>
          <p:nvPr/>
        </p:nvCxnSpPr>
        <p:spPr>
          <a:xfrm flipH="1" rot="16200000">
            <a:off x="1931040" y="5304240"/>
            <a:ext cx="278280" cy="12643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6" name="TextBox 114"/>
          <p:cNvSpPr/>
          <p:nvPr/>
        </p:nvSpPr>
        <p:spPr>
          <a:xfrm>
            <a:off x="317520" y="6189840"/>
            <a:ext cx="204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9:27:22Z</dcterms:created>
  <dc:creator>C Smythe</dc:creator>
  <dc:description/>
  <dc:language>en-US</dc:language>
  <cp:lastModifiedBy>Colin Smythe</cp:lastModifiedBy>
  <cp:lastPrinted>2008-02-19T11:08:18Z</cp:lastPrinted>
  <dcterms:modified xsi:type="dcterms:W3CDTF">2009-05-04T20:03:54Z</dcterms:modified>
  <cp:revision>262</cp:revision>
  <dc:subject/>
  <dc:title>No Slide Title</dc:title>
</cp:coreProperties>
</file>