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dt" idx="2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sldImg"/>
          </p:nvPr>
        </p:nvSpPr>
        <p:spPr>
          <a:xfrm>
            <a:off x="1714320" y="685440"/>
            <a:ext cx="3429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ftr" idx="2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 type="sldNum" idx="2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38CA-2427-4793-BE00-E81A36CF14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545C-4A16-4178-8F4C-8C12727998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C038-3592-45EC-974D-5D15B6CB54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41FF-831C-458D-9ACC-3B285B8D31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D158-8CA8-4E06-8C68-A082FCB2F4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D1D8-A972-4F42-AF37-3C8B488FB3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52AD-75A0-4265-A0EF-43D07E7FDD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E897-4A6D-4C0D-8991-6B0550029D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C74B-1B03-4265-A04F-F6E5A5073C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A409-EE1C-4B75-A91D-042FF8599F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11D8-0AF3-48E4-998A-B600311A51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8723-0AA5-4AD2-B2F5-DB17CC1B94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813B-56E6-4031-A6F1-C98D725EB2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2A6EC-C5C2-4BC2-A74C-761F261BB4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53394-18BE-4108-842A-45F197C4D45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DCEFB-44FC-413D-AE2F-3C0AA31F4DC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241AB-FD3A-4D4D-AF07-E086314B723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DCFCF-41F8-4B6B-BEFD-6C1F4B3E04D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323F6-E491-4A10-9F6E-8D2DE344661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97282-35FD-4F7E-B28E-20173FF3FA0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C20BB-0649-4CDF-BFC2-FC76EC55117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E7896-5560-496F-ABA6-B158B498D4A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E9F84-DB3D-49B5-8034-63BA40C625B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7EF26-4EB8-4045-9DB8-17FF8C508FE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DE3D18-BD3C-409E-B374-48A98BAA65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0C0C8-0145-49B7-B276-49DECBB70C5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BC4D15-4D39-480A-8C56-EB0A99720F9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4BB912-E603-44D0-8C2E-25B7C1B30A5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DA6698-EBFF-455D-B441-29FB147BF1E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D6F1D6-1D50-4B02-A884-23EA83DD7EA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A0D500-83E7-4D5F-BE74-846A60739F1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099919-8D6D-4DCC-AF57-6B8564DDDCE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9DB182-4593-4FFB-A52B-B9B092ECF2B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462542-CBF3-4F63-A6A7-594A756863B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FD4EDD-493C-4BF3-AB60-7F0A413222F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F00F2A-742D-401B-A000-D98C254A53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D28CE-F4F0-4BF9-AD6F-99B011E923F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AA5CFD-CE8F-4FCA-95EF-3304F5BC0FD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F1A24E-B06D-4715-872E-4BC1F7CF41E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1CFB87-9BD2-4CA1-91CB-217093AF5DA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F369DC-603C-4482-BD6F-CEBE92B098B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BA694C-4855-4E41-98EC-6A053A0DAE2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34B6A4-639F-438F-8BFA-91674E22609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0E6603-D6D5-4538-9154-F254A50738E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F0D5D2-743D-4D97-A71A-C7FDB50054A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FB6C31-CB6A-4720-84BD-3A949452073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5A69E7-DF8B-4799-A5AE-D31B7A22FA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D17FF-9DF8-47EC-AFBE-A7420E555AB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CD578A-5A70-4EC0-9AE4-900A2A7C59B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1D6DBC-117C-4B41-9068-91709C1C0B2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197CE0-9FF9-4208-AD82-797022713D1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5E8E1-DC36-45F1-A7D0-DCBA7270C3E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16E27-810E-4AFE-AE2D-8929091296A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EA2B5-55B9-4593-806C-084499F7E31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0DC3C-733A-4B3C-AC46-A2C1862ECFB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103C7-B9EF-4B10-8E94-53974A7F538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F3402-CC81-494B-AD62-C3E273C95DA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523AB-C5C6-429C-ADE7-875557F10C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F28C4-6C67-4923-A0EA-8C504E6FF6B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8F276-8389-4BF1-8DD7-C95B38DF7EE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80A30-92B1-4170-8CA8-A09C2FAF475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82475-24ED-4AEE-AA23-6502BE351F6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F5114-42A4-4A1D-A245-5DF5FEB5FA6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16498-4D7A-4282-9106-16889F83916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EBA251-E55B-4B92-A55F-8C3009809A9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545A1C-23D0-4DFD-AB8E-ED45AC64C47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E6D14D-31F1-4950-B442-51770BBDA14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E711C0-D491-4F14-95E9-A4CD9F32DDD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93B1F1-D9FB-4E09-B6FB-492E02595F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A4208-6C24-47F0-A1C4-914B121F489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E87C11-A427-47DF-A0C6-574AB4AE984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43E666-9095-478F-AE62-F930615D979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C9E283-8D29-4CFD-A627-4EECF0336AE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366D9C-A0C6-406B-B036-A5735D3E604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E59300-445F-4A97-8F28-58EC327872D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55ECA3-CDF3-485A-B01E-44631D33E52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773EC1-07FE-45DC-813B-76BB8DEE24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35772-DE16-44A4-99CC-3A4253BED9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F7998-5EBE-461C-A6A3-3A776E55BC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F7E12-3CB4-49F5-8A53-16B5F1A80C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75B49-7692-45C3-87C5-823AD3FB12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897FD-AB9E-42E4-ADB7-AD78562F08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7DC68-03C6-4E24-A67D-8B6C4F4BEE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37A8D-54C5-4EB4-9F78-E87B4DC800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C748E-343E-4B28-B2A5-CF46200B74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BBA46-01DD-4982-ABBE-1100FDE276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081CD-72DE-4473-8896-E7D3E277146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06A0-CED5-496D-A2D0-EE70B3059E7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43EA-3215-4947-BE7F-326B5C16903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95B5-418C-4873-9CEF-7A32F7089AD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F193-FFAB-4F11-8040-272612FECB7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A4EC-092C-4896-96B8-0A169A3922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68592-56B1-401E-978F-5B6075948AF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B399-9992-40D0-B765-76AE2154CBF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3D4B-D119-48A5-B143-CCA636BB22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CE08-45FC-43D8-81A4-8048105BF1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4FE5-0CD3-4287-AD6E-5C3B0E4F673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092B-C802-4851-88D3-C256ADBACB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BB66-74C9-416B-9852-764F41F750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F3CE-E252-404D-86EE-635E3F8AF3E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92308A-8C0C-4187-9D91-087F86802B5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4E8A3C-8D6A-420C-B7DE-5B3508566B8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B415E7-8B3C-4F9F-A6DA-906D71F14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AD382-F043-4182-945D-674DB6032FF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95B14A-DCA5-4567-A405-58BFC9CC15B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7E200F-B8EC-467B-AA9A-432DDF5B8ED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387B36-F14B-4813-A7EE-16063CF830A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6FCD2A-984A-4640-99E2-A3E773DE7B7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3AB28A-DBBB-472F-8E64-02F70E36F15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13BA9E-8FAF-4CA6-BD7B-425E36C0BE8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2011A5-E324-48B5-B88F-A6FBC130834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EBEC92-8882-4A19-B975-68058724796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E286BD-E066-483D-A00A-6FAA061890A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9852B6-F405-4A33-A0FE-15BAB4431E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5984D-3F23-4AA9-B0A5-CE2E81C8AAA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DC3364-91CE-4A2B-91CB-71F1AB2C7DF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AE0A2D-9530-494E-8043-C0D74392965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1FAC9E-DBB5-4D0C-AF66-B0AD2E91D6C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9D56E2-AD14-4DD5-A730-3AA6990F4FD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BC1470-FC71-4582-A0F9-17BD272B71D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24C895-18C5-4388-AA2D-01D6EB35F63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00CB53-7CFC-4B43-8867-5CD8BF728F5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E1D7A0-14F6-43F1-A1D5-483449931FB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1ADDEC-6662-41CA-82A3-E380256C858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0688AE-75EF-416E-A7F4-47C39E2A6B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9DF43-CABE-4D26-9C87-3248B53547B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DE80F4-5AA3-48A0-8F80-4EF7B817831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8A1F3-162A-4D1B-9932-B948CD2EE13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9F49E-08B5-495D-BA6B-84D0B8B2162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5BC15-5362-491F-B67E-60E6956D3F7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124E0-C408-41FA-8E71-333C035DFF9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80713-CD0E-45C3-90AD-A9CBB9BA19A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011DF-8D2A-4A88-9D57-52D77F75C4D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4DE3A-E79A-4210-8693-1C5E2D1277A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92593-68C7-4F9A-A3ED-40C4660FBEB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D7BB6-B196-4B64-9B07-15864752D2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E3489-D8DD-4AA9-AF66-4C895387EDC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D02B8-3F02-49DE-A48F-FC5EDC0C6FC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5273C-7A38-4226-8212-D1A586923B6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10F25-0515-46AF-A4B4-61AA8B956CC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DC2A67-140D-4D17-976A-BF886EAC206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8C2C8B-CF61-413B-AA1F-D271F45D5FF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7B73E3-1458-499D-A91C-2363DC7A5C4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33E2EF-7B47-42E4-90CF-062C401CBAB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33535B-62FB-4F41-BF2A-266C0B14766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FF24DF-C758-4CF6-AB96-EF00F0E2FFE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EB0E63-0F6A-4E1C-8C02-66635607FF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70AE6-2D47-464A-8421-BE52CBB7EF1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B4EE49-50A2-4BF1-A346-4A170B5CE72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047E8A-4B5B-42F4-8608-B69BAB51F4D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DCDEA4-BDE3-4318-B973-1B708BB0709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2F83A4-5078-4B7C-B562-356EDC3557D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03171D-99B4-4B71-8A19-58E22A31C1A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5D3EC7-9F36-4648-B8F7-553CED04B3D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E92C83-0565-41F9-A0F6-FAA1DC10117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D8C38E-835B-4C2D-91BA-8EAE565E08E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18D754-BC7D-4400-A9E1-F34A2BDA850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56C007-59C3-4BCE-98C3-D4EF8AC8B1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86989-47A7-45E8-82CD-FD2479A62A9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737966-5829-4850-A7C6-E42FFEBA264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204328-65A5-4F24-84D7-6721E748663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8394E3-A2AA-41C0-B338-A1133183151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3DC5C1-0E83-44AC-88F0-578B308AB4A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3BB3F5-DDC6-4140-BF91-FE15A26A9B2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4D83BB-EE6F-4FB8-ADA7-A5A5EA9BCE0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C56252-2536-475B-9EDB-41E258FAEDF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BFC48-2849-43DA-AC0E-4D9AF582965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197EC-FE5C-4784-8E85-8A563342C29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2F6B9-7573-43D2-A70B-60F5A0176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07BF-F9B2-48C8-AF9B-2A5BBE996081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ftr" idx="19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sldNum" idx="20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7875-007D-4E6F-9B48-DD0D0D0426CD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ftr" idx="2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2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1ED2-23F4-4F21-95AC-DC9F0DE55426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ftr" idx="2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sldNum" idx="2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93CE-6084-40E2-A48C-BA856A144733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ftr" idx="2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sldNum" idx="2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E091-B70A-46D3-9B74-FD1A5AB82B44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6D17-BD6E-42B8-BE28-8469DAC37AD5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01D3-9E8F-44D3-A575-72F859CEFEB8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7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8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6045-9007-4036-B113-08883D23B8A5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9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0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905B-FD73-4239-9D57-ECD6174E945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1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3904-EEBD-4D60-8302-D9E09047E713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605F-3BA5-4FB6-819E-4C846E45F07D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ftr" idx="1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sldNum" idx="1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68FE-A712-422D-99FD-02C809099611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ftr" idx="17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18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7CF2-A6E8-406C-8EFD-0543947F5D7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7126-E5B9-4621-B7A9-F81F7A27A211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93480" y="1794960"/>
            <a:ext cx="82278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Times New Roman"/>
              </a:rPr>
              <a:t>Service-oriented Architecture (SoA):</a:t>
            </a: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Times New Roman"/>
              </a:rPr>
              <a:t>Preparing Your Business &amp; IT Products</a:t>
            </a:r>
            <a:br>
              <a:rPr sz="3200"/>
            </a:br>
            <a:br>
              <a:rPr sz="3200"/>
            </a:br>
            <a:r>
              <a:rPr b="1" lang="en-GB" sz="4800" spc="-1" strike="noStrike">
                <a:solidFill>
                  <a:srgbClr val="808080"/>
                </a:solidFill>
                <a:latin typeface="Times New Roman"/>
              </a:rPr>
              <a:t>Session 4 – Enterprise Integration</a:t>
            </a:r>
            <a:endParaRPr b="1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583920" y="6392880"/>
            <a:ext cx="806436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r Colin Smyth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unelm Services Ltd (colin@dunelm.com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5" descr="88x31.png"/>
          <p:cNvPicPr/>
          <p:nvPr/>
        </p:nvPicPr>
        <p:blipFill>
          <a:blip r:embed="rId1"/>
          <a:stretch/>
        </p:blipFill>
        <p:spPr>
          <a:xfrm>
            <a:off x="469800" y="7835760"/>
            <a:ext cx="1422360" cy="5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CE5F-DFF2-4644-9724-9FACE1F9BABC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Enterprise Service Bu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74840" y="2234880"/>
            <a:ext cx="826272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B is a middleware solution that enables interoperability among heterogeneous environments using a service-oriented model, and it represents the consolidation of the EAI and application server product categori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re are many implementations of the ESB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C2BA-CB32-4C75-B712-9B0364D19F04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Enterprise-Capable Product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74480" y="206964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90680" indent="-49068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ust support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-40896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Distributed authentication, authorisation and access contro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-40896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onfigurable workflow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-40896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usiness rule and information semantics mapp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nteroperability through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-40896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Native service interfaces e.g. Web Service based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-40896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ervice adapters e.g. ESB-adapt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E6D8-9A32-45C4-BF4D-9C3A19FB4C4F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Enterprise-Capable System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eed a clear set of information semantic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Provide information where and when it is neede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Provide a combination of common services and domain-specific servi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an be changed with minimal new developm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Typical EAI Scenario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iversity and FE Colleg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ducation for thousand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arehouse managem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ust in time supply chai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cilities managem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formation integr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HS Connecting for Health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tale of wo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A0F3-4B45-416B-A603-9BDD501FFE0D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Avoiding Deployment Problem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799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ign services that improve manageabili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799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ress security, access compliance and audit contro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799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-to-end monitoring to detect, isolate and fix services problem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799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sure flexibility to adapt and track changes through trend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799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port on services in a business context or in terms of SLA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799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nage the virtualization infrastructu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4E63-7384-4FAA-8785-E990C350A8E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8978-FEF8-40A3-92B6-8B405A0EACCD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nterprise Integr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Multiple services, systems and si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Flexibility and chan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Heterogeneity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homogene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usiness process optimis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oA should be a part of Enterprise Integr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License &amp; Acknowledgement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62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7C10-65F6-4C55-8F67-95372B42EBC9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Picture 8" descr="CCImage.tiff"/>
          <p:cNvPicPr/>
          <p:nvPr/>
        </p:nvPicPr>
        <p:blipFill>
          <a:blip r:embed="rId1"/>
          <a:stretch/>
        </p:blipFill>
        <p:spPr>
          <a:xfrm>
            <a:off x="1066680" y="2031840"/>
            <a:ext cx="685800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Learning Objectiv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80520" y="2234880"/>
            <a:ext cx="835668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xplain how SoA fits into Enterprise Architecture frameworks and how legacy can be addresse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xplain some of the business issues including governance, and business and technology migr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Discuss some typical scenarios for Enterprise Integr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F83E-9313-4E4A-ABF9-0EF0CEF80821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70C7-536D-4A28-B04B-0591C4193428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Enterprise Integration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ultiple services and system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ultiple sites (inc. transnational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ccess and personaliz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Flexibility and chang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Heterogeneity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homogeneit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upply chain suppor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Regulatory suppor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Business process optimis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0E0C-47DF-4EEE-81FC-477354A7F4D4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EA Framework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47" name="Picture 6" descr="600px-Architectural_Levels_and_Attributes.jpg"/>
          <p:cNvPicPr/>
          <p:nvPr/>
        </p:nvPicPr>
        <p:blipFill>
          <a:blip r:embed="rId1"/>
          <a:stretch/>
        </p:blipFill>
        <p:spPr>
          <a:xfrm>
            <a:off x="304920" y="2122560"/>
            <a:ext cx="8551800" cy="3833640"/>
          </a:xfrm>
          <a:prstGeom prst="rect">
            <a:avLst/>
          </a:prstGeom>
          <a:ln w="0">
            <a:noFill/>
          </a:ln>
        </p:spPr>
      </p:pic>
      <p:sp>
        <p:nvSpPr>
          <p:cNvPr id="648" name="Rectangle 5"/>
          <p:cNvSpPr/>
          <p:nvPr/>
        </p:nvSpPr>
        <p:spPr>
          <a:xfrm>
            <a:off x="584280" y="5867280"/>
            <a:ext cx="7924680" cy="2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Open Group Architecture Framework (TOGA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istry of Defence Architectural Framework (MODA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achman Framework – from IB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0"/>
          <p:cNvSpPr/>
          <p:nvPr/>
        </p:nvSpPr>
        <p:spPr>
          <a:xfrm>
            <a:off x="317520" y="4572000"/>
            <a:ext cx="8521560" cy="13208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E66C-BD6A-49CF-B8F7-C82647DD437D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Addressing Scale &amp; Complexity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ywhere, anytime acces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Finding resources, tools, applications and servi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anagement, maintenance and report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The law of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unintended consequen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ystem and service reliability and availabilit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3796-28F2-40E3-99F7-3ED1450CED8F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Times New Roman"/>
              </a:rPr>
              <a:t>IT/SoA Governance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7" name="Oval 6"/>
          <p:cNvSpPr/>
          <p:nvPr/>
        </p:nvSpPr>
        <p:spPr>
          <a:xfrm>
            <a:off x="1650960" y="2273400"/>
            <a:ext cx="5829480" cy="5829120"/>
          </a:xfrm>
          <a:prstGeom prst="ellipse">
            <a:avLst/>
          </a:prstGeom>
          <a:solidFill>
            <a:srgbClr val="cbcc1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7"/>
          <p:cNvSpPr/>
          <p:nvPr/>
        </p:nvSpPr>
        <p:spPr>
          <a:xfrm>
            <a:off x="2409840" y="3032280"/>
            <a:ext cx="4311720" cy="4311360"/>
          </a:xfrm>
          <a:prstGeom prst="ellipse">
            <a:avLst/>
          </a:prstGeom>
          <a:solidFill>
            <a:srgbClr val="7dcc4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8"/>
          <p:cNvSpPr/>
          <p:nvPr/>
        </p:nvSpPr>
        <p:spPr>
          <a:xfrm>
            <a:off x="3205080" y="3827520"/>
            <a:ext cx="2720880" cy="2720880"/>
          </a:xfrm>
          <a:prstGeom prst="ellipse">
            <a:avLst/>
          </a:prstGeom>
          <a:solidFill>
            <a:srgbClr val="7fa7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TextBox 13" descr=""/>
          <p:cNvPicPr/>
          <p:nvPr/>
        </p:nvPicPr>
        <p:blipFill>
          <a:blip r:embed="rId1"/>
          <a:stretch/>
        </p:blipFill>
        <p:spPr>
          <a:xfrm>
            <a:off x="2749680" y="2425680"/>
            <a:ext cx="3632040" cy="2189160"/>
          </a:xfrm>
          <a:prstGeom prst="rect">
            <a:avLst/>
          </a:prstGeom>
          <a:ln w="0">
            <a:noFill/>
          </a:ln>
        </p:spPr>
      </p:pic>
      <p:pic>
        <p:nvPicPr>
          <p:cNvPr id="661" name="TextBox 14" descr=""/>
          <p:cNvPicPr/>
          <p:nvPr/>
        </p:nvPicPr>
        <p:blipFill>
          <a:blip r:embed="rId2"/>
          <a:stretch/>
        </p:blipFill>
        <p:spPr>
          <a:xfrm>
            <a:off x="3224160" y="3309840"/>
            <a:ext cx="2689200" cy="1536840"/>
          </a:xfrm>
          <a:prstGeom prst="rect">
            <a:avLst/>
          </a:prstGeom>
          <a:ln w="0">
            <a:noFill/>
          </a:ln>
        </p:spPr>
      </p:pic>
      <p:sp>
        <p:nvSpPr>
          <p:cNvPr id="662" name="TextBox 15"/>
          <p:cNvSpPr/>
          <p:nvPr/>
        </p:nvSpPr>
        <p:spPr>
          <a:xfrm>
            <a:off x="3399840" y="4572000"/>
            <a:ext cx="228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ver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303C-48FD-4EEE-9EFA-123540D43B1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Evolution from a Legacy System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6" name="Rectangle 6"/>
          <p:cNvSpPr/>
          <p:nvPr/>
        </p:nvSpPr>
        <p:spPr>
          <a:xfrm>
            <a:off x="685800" y="7170840"/>
            <a:ext cx="6197760" cy="583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0.  Monolithic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7"/>
          <p:cNvSpPr/>
          <p:nvPr/>
        </p:nvSpPr>
        <p:spPr>
          <a:xfrm>
            <a:off x="685800" y="6586560"/>
            <a:ext cx="6197760" cy="584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 Integrat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8"/>
          <p:cNvSpPr/>
          <p:nvPr/>
        </p:nvSpPr>
        <p:spPr>
          <a:xfrm>
            <a:off x="1130400" y="6002280"/>
            <a:ext cx="5753160" cy="584280"/>
          </a:xfrm>
          <a:prstGeom prst="rect">
            <a:avLst/>
          </a:prstGeom>
          <a:solidFill>
            <a:srgbClr val="adade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 Provid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9"/>
          <p:cNvSpPr/>
          <p:nvPr/>
        </p:nvSpPr>
        <p:spPr>
          <a:xfrm>
            <a:off x="1562040" y="5418000"/>
            <a:ext cx="5321520" cy="584280"/>
          </a:xfrm>
          <a:prstGeom prst="rect">
            <a:avLst/>
          </a:prstGeom>
          <a:solidFill>
            <a:srgbClr val="8585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 Consum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10"/>
          <p:cNvSpPr/>
          <p:nvPr/>
        </p:nvSpPr>
        <p:spPr>
          <a:xfrm>
            <a:off x="1994040" y="4834080"/>
            <a:ext cx="4889520" cy="583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 Expose Cap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11"/>
          <p:cNvSpPr/>
          <p:nvPr/>
        </p:nvSpPr>
        <p:spPr>
          <a:xfrm>
            <a:off x="2425680" y="4254480"/>
            <a:ext cx="4457880" cy="584280"/>
          </a:xfrm>
          <a:prstGeom prst="rect">
            <a:avLst/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 Consume Cap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12"/>
          <p:cNvSpPr/>
          <p:nvPr/>
        </p:nvSpPr>
        <p:spPr>
          <a:xfrm>
            <a:off x="2857680" y="3675240"/>
            <a:ext cx="4025880" cy="583920"/>
          </a:xfrm>
          <a:prstGeom prst="rect">
            <a:avLst/>
          </a:prstGeom>
          <a:solidFill>
            <a:srgbClr val="47ff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 Orchestrate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13"/>
          <p:cNvSpPr/>
          <p:nvPr/>
        </p:nvSpPr>
        <p:spPr>
          <a:xfrm>
            <a:off x="3289320" y="3090960"/>
            <a:ext cx="3594240" cy="584280"/>
          </a:xfrm>
          <a:prstGeom prst="rect">
            <a:avLst/>
          </a:prstGeom>
          <a:solidFill>
            <a:srgbClr val="00664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.  Build Compo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14"/>
          <p:cNvSpPr/>
          <p:nvPr/>
        </p:nvSpPr>
        <p:spPr>
          <a:xfrm>
            <a:off x="7040520" y="3090960"/>
            <a:ext cx="1824120" cy="1768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15"/>
          <p:cNvSpPr/>
          <p:nvPr/>
        </p:nvSpPr>
        <p:spPr>
          <a:xfrm>
            <a:off x="7040520" y="4851360"/>
            <a:ext cx="1824120" cy="1719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16"/>
          <p:cNvSpPr/>
          <p:nvPr/>
        </p:nvSpPr>
        <p:spPr>
          <a:xfrm>
            <a:off x="7040520" y="6570720"/>
            <a:ext cx="1824120" cy="617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ubl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7" name="Straight Arrow Connector 19"/>
          <p:cNvCxnSpPr/>
          <p:nvPr/>
        </p:nvCxnSpPr>
        <p:spPr>
          <a:xfrm flipV="1">
            <a:off x="342000" y="3047760"/>
            <a:ext cx="2603520" cy="35186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8" name="TextBox 20"/>
          <p:cNvSpPr/>
          <p:nvPr/>
        </p:nvSpPr>
        <p:spPr>
          <a:xfrm rot="18462600">
            <a:off x="-465480" y="4230360"/>
            <a:ext cx="35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th of Prog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0900-9B64-4417-B1D9-E146FF539F33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Times New Roman"/>
              </a:rPr>
              <a:t>Increasing SoA Complexity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82" name="Oval 5"/>
          <p:cNvSpPr/>
          <p:nvPr/>
        </p:nvSpPr>
        <p:spPr>
          <a:xfrm>
            <a:off x="998640" y="2865600"/>
            <a:ext cx="583920" cy="583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Box 6"/>
          <p:cNvSpPr/>
          <p:nvPr/>
        </p:nvSpPr>
        <p:spPr>
          <a:xfrm>
            <a:off x="271440" y="3886200"/>
            <a:ext cx="19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ngle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Oval 7"/>
          <p:cNvSpPr/>
          <p:nvPr/>
        </p:nvSpPr>
        <p:spPr>
          <a:xfrm>
            <a:off x="2916360" y="3301920"/>
            <a:ext cx="583920" cy="584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Box 8"/>
          <p:cNvSpPr/>
          <p:nvPr/>
        </p:nvSpPr>
        <p:spPr>
          <a:xfrm>
            <a:off x="2684520" y="3886200"/>
            <a:ext cx="19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ple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Oval 9"/>
          <p:cNvSpPr/>
          <p:nvPr/>
        </p:nvSpPr>
        <p:spPr>
          <a:xfrm>
            <a:off x="3919680" y="3314880"/>
            <a:ext cx="583920" cy="583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Oval 10"/>
          <p:cNvSpPr/>
          <p:nvPr/>
        </p:nvSpPr>
        <p:spPr>
          <a:xfrm>
            <a:off x="3424320" y="2451240"/>
            <a:ext cx="584280" cy="583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Straight Connector 12"/>
          <p:cNvSpPr/>
          <p:nvPr/>
        </p:nvSpPr>
        <p:spPr>
          <a:xfrm>
            <a:off x="3500280" y="3594240"/>
            <a:ext cx="41940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Straight Connector 15"/>
          <p:cNvSpPr/>
          <p:nvPr/>
        </p:nvSpPr>
        <p:spPr>
          <a:xfrm flipH="1" flipV="1">
            <a:off x="3922200" y="2949120"/>
            <a:ext cx="289080" cy="365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Box 29"/>
          <p:cNvSpPr/>
          <p:nvPr/>
        </p:nvSpPr>
        <p:spPr>
          <a:xfrm>
            <a:off x="6222960" y="3886200"/>
            <a:ext cx="19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Group 41"/>
          <p:cNvGrpSpPr/>
          <p:nvPr/>
        </p:nvGrpSpPr>
        <p:grpSpPr>
          <a:xfrm>
            <a:off x="5557680" y="2405160"/>
            <a:ext cx="3116520" cy="1473120"/>
            <a:chOff x="5557680" y="2405160"/>
            <a:chExt cx="3116520" cy="1473120"/>
          </a:xfrm>
        </p:grpSpPr>
        <p:sp>
          <p:nvSpPr>
            <p:cNvPr id="692" name="Rectangle 40"/>
            <p:cNvSpPr/>
            <p:nvPr/>
          </p:nvSpPr>
          <p:spPr>
            <a:xfrm>
              <a:off x="5557680" y="2405160"/>
              <a:ext cx="3116520" cy="1473120"/>
            </a:xfrm>
            <a:prstGeom prst="rect">
              <a:avLst/>
            </a:prstGeom>
            <a:solidFill>
              <a:srgbClr val="22228b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Oval 32"/>
            <p:cNvSpPr/>
            <p:nvPr/>
          </p:nvSpPr>
          <p:spPr>
            <a:xfrm>
              <a:off x="5701320" y="2519280"/>
              <a:ext cx="584280" cy="584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Oval 33"/>
            <p:cNvSpPr/>
            <p:nvPr/>
          </p:nvSpPr>
          <p:spPr>
            <a:xfrm>
              <a:off x="6446880" y="2519280"/>
              <a:ext cx="584280" cy="584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Oval 34"/>
            <p:cNvSpPr/>
            <p:nvPr/>
          </p:nvSpPr>
          <p:spPr>
            <a:xfrm>
              <a:off x="7192080" y="2519280"/>
              <a:ext cx="584280" cy="584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Oval 35"/>
            <p:cNvSpPr/>
            <p:nvPr/>
          </p:nvSpPr>
          <p:spPr>
            <a:xfrm>
              <a:off x="7937640" y="2519280"/>
              <a:ext cx="584280" cy="584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Oval 36"/>
            <p:cNvSpPr/>
            <p:nvPr/>
          </p:nvSpPr>
          <p:spPr>
            <a:xfrm>
              <a:off x="5701320" y="3179880"/>
              <a:ext cx="584280" cy="584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Oval 37"/>
            <p:cNvSpPr/>
            <p:nvPr/>
          </p:nvSpPr>
          <p:spPr>
            <a:xfrm>
              <a:off x="6446880" y="3179880"/>
              <a:ext cx="584280" cy="584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Oval 38"/>
            <p:cNvSpPr/>
            <p:nvPr/>
          </p:nvSpPr>
          <p:spPr>
            <a:xfrm>
              <a:off x="7192080" y="3179880"/>
              <a:ext cx="584280" cy="584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Oval 39"/>
            <p:cNvSpPr/>
            <p:nvPr/>
          </p:nvSpPr>
          <p:spPr>
            <a:xfrm>
              <a:off x="7937640" y="3179880"/>
              <a:ext cx="584280" cy="584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1" name="Right Arrow 42"/>
          <p:cNvSpPr/>
          <p:nvPr/>
        </p:nvSpPr>
        <p:spPr>
          <a:xfrm>
            <a:off x="2044800" y="2882880"/>
            <a:ext cx="546120" cy="45720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ight Arrow 43"/>
          <p:cNvSpPr/>
          <p:nvPr/>
        </p:nvSpPr>
        <p:spPr>
          <a:xfrm>
            <a:off x="4711680" y="2895480"/>
            <a:ext cx="546120" cy="45720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44"/>
          <p:cNvSpPr/>
          <p:nvPr/>
        </p:nvSpPr>
        <p:spPr>
          <a:xfrm>
            <a:off x="3403440" y="5321160"/>
            <a:ext cx="508320" cy="508320"/>
          </a:xfrm>
          <a:prstGeom prst="rect">
            <a:avLst/>
          </a:prstGeom>
          <a:solidFill>
            <a:srgbClr val="22228b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45"/>
          <p:cNvSpPr/>
          <p:nvPr/>
        </p:nvSpPr>
        <p:spPr>
          <a:xfrm>
            <a:off x="3924360" y="6286680"/>
            <a:ext cx="507960" cy="507960"/>
          </a:xfrm>
          <a:prstGeom prst="rect">
            <a:avLst/>
          </a:prstGeom>
          <a:solidFill>
            <a:srgbClr val="22228b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Rectangle 46"/>
          <p:cNvSpPr/>
          <p:nvPr/>
        </p:nvSpPr>
        <p:spPr>
          <a:xfrm>
            <a:off x="2895480" y="6299280"/>
            <a:ext cx="507960" cy="507960"/>
          </a:xfrm>
          <a:prstGeom prst="rect">
            <a:avLst/>
          </a:prstGeom>
          <a:solidFill>
            <a:srgbClr val="22228b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Straight Connector 47"/>
          <p:cNvSpPr/>
          <p:nvPr/>
        </p:nvSpPr>
        <p:spPr>
          <a:xfrm>
            <a:off x="3657600" y="5829480"/>
            <a:ext cx="52056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Straight Connector 48"/>
          <p:cNvSpPr/>
          <p:nvPr/>
        </p:nvSpPr>
        <p:spPr>
          <a:xfrm flipH="1">
            <a:off x="3149280" y="5829480"/>
            <a:ext cx="507960" cy="469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55"/>
          <p:cNvSpPr/>
          <p:nvPr/>
        </p:nvSpPr>
        <p:spPr>
          <a:xfrm>
            <a:off x="990720" y="5334120"/>
            <a:ext cx="507960" cy="50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56"/>
          <p:cNvSpPr/>
          <p:nvPr/>
        </p:nvSpPr>
        <p:spPr>
          <a:xfrm>
            <a:off x="1511280" y="6299280"/>
            <a:ext cx="507960" cy="50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57"/>
          <p:cNvSpPr/>
          <p:nvPr/>
        </p:nvSpPr>
        <p:spPr>
          <a:xfrm>
            <a:off x="482760" y="6311880"/>
            <a:ext cx="507960" cy="507960"/>
          </a:xfrm>
          <a:prstGeom prst="rect">
            <a:avLst/>
          </a:prstGeom>
          <a:solidFill>
            <a:srgbClr val="22228b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Straight Connector 58"/>
          <p:cNvSpPr/>
          <p:nvPr/>
        </p:nvSpPr>
        <p:spPr>
          <a:xfrm>
            <a:off x="1243800" y="5842080"/>
            <a:ext cx="520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Straight Connector 59"/>
          <p:cNvSpPr/>
          <p:nvPr/>
        </p:nvSpPr>
        <p:spPr>
          <a:xfrm flipH="1">
            <a:off x="736200" y="5842080"/>
            <a:ext cx="507960" cy="469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Box 60"/>
          <p:cNvSpPr/>
          <p:nvPr/>
        </p:nvSpPr>
        <p:spPr>
          <a:xfrm>
            <a:off x="216000" y="7035840"/>
            <a:ext cx="209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ngle De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Box 61"/>
          <p:cNvSpPr/>
          <p:nvPr/>
        </p:nvSpPr>
        <p:spPr>
          <a:xfrm>
            <a:off x="2637000" y="7035840"/>
            <a:ext cx="216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ple Depar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62"/>
          <p:cNvSpPr/>
          <p:nvPr/>
        </p:nvSpPr>
        <p:spPr>
          <a:xfrm>
            <a:off x="6070680" y="5842080"/>
            <a:ext cx="330120" cy="330120"/>
          </a:xfrm>
          <a:prstGeom prst="rect">
            <a:avLst/>
          </a:prstGeom>
          <a:solidFill>
            <a:srgbClr val="22228b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Rectangle 63"/>
          <p:cNvSpPr/>
          <p:nvPr/>
        </p:nvSpPr>
        <p:spPr>
          <a:xfrm>
            <a:off x="6337440" y="6464160"/>
            <a:ext cx="330120" cy="330480"/>
          </a:xfrm>
          <a:prstGeom prst="rect">
            <a:avLst/>
          </a:prstGeom>
          <a:solidFill>
            <a:srgbClr val="22228b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64"/>
          <p:cNvSpPr/>
          <p:nvPr/>
        </p:nvSpPr>
        <p:spPr>
          <a:xfrm>
            <a:off x="5829480" y="6451560"/>
            <a:ext cx="330120" cy="330120"/>
          </a:xfrm>
          <a:prstGeom prst="rect">
            <a:avLst/>
          </a:prstGeom>
          <a:solidFill>
            <a:srgbClr val="22228b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Straight Connector 65"/>
          <p:cNvSpPr/>
          <p:nvPr/>
        </p:nvSpPr>
        <p:spPr>
          <a:xfrm>
            <a:off x="6234840" y="6172200"/>
            <a:ext cx="266760" cy="291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Straight Connector 66"/>
          <p:cNvSpPr/>
          <p:nvPr/>
        </p:nvSpPr>
        <p:spPr>
          <a:xfrm flipH="1">
            <a:off x="5994360" y="6172200"/>
            <a:ext cx="241200" cy="27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70"/>
          <p:cNvSpPr/>
          <p:nvPr/>
        </p:nvSpPr>
        <p:spPr>
          <a:xfrm>
            <a:off x="6858000" y="5232240"/>
            <a:ext cx="330120" cy="330480"/>
          </a:xfrm>
          <a:prstGeom prst="rect">
            <a:avLst/>
          </a:prstGeom>
          <a:solidFill>
            <a:srgbClr val="22228b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71"/>
          <p:cNvSpPr/>
          <p:nvPr/>
        </p:nvSpPr>
        <p:spPr>
          <a:xfrm>
            <a:off x="7124760" y="5854680"/>
            <a:ext cx="330120" cy="330120"/>
          </a:xfrm>
          <a:prstGeom prst="rect">
            <a:avLst/>
          </a:prstGeom>
          <a:solidFill>
            <a:srgbClr val="22228b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72"/>
          <p:cNvSpPr/>
          <p:nvPr/>
        </p:nvSpPr>
        <p:spPr>
          <a:xfrm>
            <a:off x="6616800" y="5842080"/>
            <a:ext cx="330120" cy="330120"/>
          </a:xfrm>
          <a:prstGeom prst="rect">
            <a:avLst/>
          </a:prstGeom>
          <a:solidFill>
            <a:srgbClr val="22228b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Straight Connector 73"/>
          <p:cNvSpPr/>
          <p:nvPr/>
        </p:nvSpPr>
        <p:spPr>
          <a:xfrm>
            <a:off x="7023240" y="5562720"/>
            <a:ext cx="266400" cy="291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Straight Connector 74"/>
          <p:cNvSpPr/>
          <p:nvPr/>
        </p:nvSpPr>
        <p:spPr>
          <a:xfrm flipH="1">
            <a:off x="6781320" y="5562720"/>
            <a:ext cx="241560" cy="27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75"/>
          <p:cNvSpPr/>
          <p:nvPr/>
        </p:nvSpPr>
        <p:spPr>
          <a:xfrm>
            <a:off x="7683480" y="5842080"/>
            <a:ext cx="330120" cy="330120"/>
          </a:xfrm>
          <a:prstGeom prst="rect">
            <a:avLst/>
          </a:prstGeom>
          <a:solidFill>
            <a:srgbClr val="22228b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76"/>
          <p:cNvSpPr/>
          <p:nvPr/>
        </p:nvSpPr>
        <p:spPr>
          <a:xfrm>
            <a:off x="7950240" y="6464160"/>
            <a:ext cx="330120" cy="330480"/>
          </a:xfrm>
          <a:prstGeom prst="rect">
            <a:avLst/>
          </a:prstGeom>
          <a:solidFill>
            <a:srgbClr val="22228b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77"/>
          <p:cNvSpPr/>
          <p:nvPr/>
        </p:nvSpPr>
        <p:spPr>
          <a:xfrm>
            <a:off x="7442280" y="6451560"/>
            <a:ext cx="330120" cy="330120"/>
          </a:xfrm>
          <a:prstGeom prst="rect">
            <a:avLst/>
          </a:prstGeom>
          <a:solidFill>
            <a:srgbClr val="22228b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Straight Connector 78"/>
          <p:cNvSpPr/>
          <p:nvPr/>
        </p:nvSpPr>
        <p:spPr>
          <a:xfrm>
            <a:off x="7848000" y="6172200"/>
            <a:ext cx="266760" cy="291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Straight Connector 79"/>
          <p:cNvSpPr/>
          <p:nvPr/>
        </p:nvSpPr>
        <p:spPr>
          <a:xfrm flipH="1">
            <a:off x="7606800" y="6172200"/>
            <a:ext cx="241560" cy="27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Box 80"/>
          <p:cNvSpPr/>
          <p:nvPr/>
        </p:nvSpPr>
        <p:spPr>
          <a:xfrm>
            <a:off x="5799240" y="7035840"/>
            <a:ext cx="2493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ple Organisations/Instit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ight Arrow 81"/>
          <p:cNvSpPr/>
          <p:nvPr/>
        </p:nvSpPr>
        <p:spPr>
          <a:xfrm>
            <a:off x="4775040" y="5359320"/>
            <a:ext cx="546120" cy="45720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ight Arrow 82"/>
          <p:cNvSpPr/>
          <p:nvPr/>
        </p:nvSpPr>
        <p:spPr>
          <a:xfrm>
            <a:off x="2184480" y="5372280"/>
            <a:ext cx="546120" cy="45720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Repositories &amp; Registri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34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6512-7C9F-4DD9-92D1-B12C5440B6D9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Repositories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used to store assets such a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440" indent="-439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SDL, XSD  and BPEL fi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440" indent="-439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rvice policies and metadat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gistries are used to store references to the IT services themselv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terprise systems rely upon federated resour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39:29Z</dcterms:created>
  <dc:creator>C Smythe</dc:creator>
  <dc:description/>
  <dc:language>en-US</dc:language>
  <cp:lastModifiedBy>Colin Smythe</cp:lastModifiedBy>
  <cp:lastPrinted>2008-02-19T11:08:18Z</cp:lastPrinted>
  <dcterms:modified xsi:type="dcterms:W3CDTF">2009-06-10T20:31:28Z</dcterms:modified>
  <cp:revision>271</cp:revision>
  <dc:subject/>
  <dc:title>No Slide Title</dc:title>
</cp:coreProperties>
</file>