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DCAC-292B-4AFB-9428-2EAD89680F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F8FC-2E51-4004-96A6-91F84A181D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E26B-981B-4870-9BD4-92E5511471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052-E39D-407B-AB2B-62E0A7652B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E93F-DD21-46B3-AD8A-F509338CFC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9BC1-312C-44DF-8D8C-DF589B5637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A864-BCF4-4D17-A486-ED0B3C40DA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F9F0-1B11-4D43-BB1F-223BF596DA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48B1-8C4E-40A1-9882-DC10E92DCD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52F4-BB13-48BD-9335-E7C16DF7D3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9DA6-B2D4-4A38-9A4F-08008E5B5C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A13A-96D3-4B2E-A033-5B13A19698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8783-2A39-4D74-9F56-78519377CB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7A96-289D-40B3-AB4F-0D1886916F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B218-D820-4D7A-8AEA-535020770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8289-4331-437F-95C4-01949C6139B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7FD9D-5076-4D32-A5DE-4FF321DD8FC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8CEEE-F10E-4D93-BDE8-E71695F51B3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FA25A-29C2-47FC-8011-B61C8441C0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F4F9-723D-433B-BF87-B4C21264BC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80253-B8B2-401D-8504-3199F532FD1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E6246-1E99-489B-BDBF-6C47AAB0F5D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79C4D-29F4-40DC-AD99-EBE5BF6379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51108-A3C1-419B-8FDE-A6DEFF9175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258ED-60D7-4F22-B2BA-4813632A1E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42C9E0-4406-48C8-97A3-633DCC41E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EA21-A2B6-48EE-AB93-D9935B1136F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3EB18-0B34-4E8A-8C9C-53B924C9FB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12B3C-FB06-4594-A8B8-DBDD9ACF1D9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E8A2C-57F1-4C83-8BEE-1B0CFFDB9AD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C601E-8D6F-46BC-90A4-44D868AAD7F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F34E9-8A66-42D1-98C0-2990FA0A7B1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609E4-BE68-4752-A6A9-793AAF21EA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A9632-863F-4B6B-B7FF-BEE3E2CA30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46442-1C0B-447F-8851-25F198DE693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4CEB1-97DB-4A7D-BA09-58AA95E0352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D5383-12D6-479D-97D6-C50D5B077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9AB3-A061-46DD-A653-D44C6CD34E7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526DD-F5D2-4B4C-A316-197ABFCE4EF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83AC1-EBBE-4B3D-8583-9379D4A5D3D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1B89E-6256-4DA5-A894-D0EFFC2F093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230E02-8208-42A2-BD20-B49BFF2465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24412D-5AA4-4026-BC05-EA9687D7C1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B8F837-06E4-4917-9B59-BCC715B253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4B87EB-4888-4977-A2FB-2DE15318DA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420CE2-1B3C-42DD-AAFE-07A8964618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D96FF1-9BC7-4978-8429-8A892B5BB2D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CF686F-DF25-48D0-B8AF-51C745D1C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C5FCF-B480-4572-96CD-1FAB5BCF65F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E90EDD-C781-4D13-AE8F-0433501398A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0ED57C-4666-4C87-8A5B-025DDB979BF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986A29-3834-40B9-A1F8-C0487BA5B17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B4DDD-4C3F-49A4-860D-D18A819CD4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69502-E502-43AB-A180-B208AE7EB7E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D4A6C-B9C1-4B9A-9E3E-2FCEAA01AA0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E9310-1C6E-4688-BF9F-3A3A1D8560C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EAE97-F00D-4467-927A-88ADA8551B2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95A23-BE2B-4CCB-B479-FCDFEF092F8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FE1D-D25D-4271-A922-E1F9546A8E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6B37F-B0BF-47AD-A61C-34F5C0BEBD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25A18-F359-4BAA-951E-290755BDB99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94572-6688-42B2-9C26-D0782D5DC1C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4689C-1154-46EA-B792-492C18B40D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D3EE6-FF87-4F93-9C7D-9872A9194DD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4D513-6303-4495-B82E-55CC68B05C6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D6B99D-98D7-4F91-84A1-D131FC57E34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34815-D411-49C3-9321-BA8816F6ABB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B04AA5-F326-42EF-8E01-782502E03CA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4F74D0-6D5B-4F26-AD50-9AE6E1B0A16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10C87D-672C-41D4-9DC0-AF906DA73C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54187-8D40-46DA-8C28-370CE1E5785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4F6537-13F3-40BF-8A77-B7750BFB044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787AD9-B654-4FA4-ADB1-15587B29660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3C367D-E536-47BC-A0A0-2EA7AEB13F6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3AB4E3-DBE1-4658-B414-3977A9AFABA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961F50-41DD-4412-B635-5BABB1CCE45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747557-1AB0-44DA-A425-3C4A95DF8C8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74FFCD-ABFB-408B-B3BB-AD5AF55562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86DE6-3750-4B51-BA2F-DB714C2529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A4044-EADC-4E15-8B16-7F8C45E41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11D44-34A4-4C58-9674-6412AF2C8B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2501E-7302-43F5-9C07-E3D20347EC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0000-478A-480C-8E27-79F670A30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68037-E4B0-4D32-839E-0ED01C8BC3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BFA5D-B0D3-4BCD-89DD-CEED08B3C5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874B4-B43C-46A5-B0DF-27F417C8B2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A8D30-533B-4FB2-8D8D-FAA926B1D2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315C7-D783-4B66-866C-DAD376A5F5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B4C0-C682-42C7-AA67-714E7BA05A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D271-C22A-4BE3-92C5-35AB4794D7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2635-50BD-428D-A320-37996A44AD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9C7B-3B65-447C-B98B-4F103EE3B7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FEFA-0602-42E3-8AA8-CB1370060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C6CD-B8F8-4C30-B00E-DB7F36DF58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3B3F-8A9A-4A94-A517-0B8C2E5547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20BE-E1CB-4BFC-8945-38F5E32FB9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FDED-1597-4D1C-918C-F683C42999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5327-5126-4FB1-805D-34C7AFE731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8A0B-A4FF-4F39-98CD-A73E6B9D5A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7A79-C814-4608-84C1-1F2D94A8B3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F9F-726B-43D7-B2BE-93028AAFC1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C09F6-9B11-4A11-AE60-4030D7CA2D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FC846-70AD-447B-94EB-8A0BBD5D28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9DBC7-193D-44B5-BE14-A22D1046F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3D2B-FEBF-4D8E-A294-1EAFAF0E1D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1E1ED-5601-4359-94CD-017EEEC5C0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64623-AA41-483A-BC40-5E1E7B4D98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4AE81-ECCB-4296-AE29-422744FD08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D13E6-C1F4-46FD-9E87-69F038882A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B4D5F-3920-4851-83CF-050634828E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CE0FE-CE9F-43A3-A06B-B0FE814282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6511D-A55D-43D9-AA11-2FCECEFDEA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D8926-B3C2-4202-879D-AC08999BAA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6B453-5248-44C8-A330-155E439084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262A6-59E4-4FA8-8E0E-CCF68D24D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21C6-B567-477F-919A-D47F0F15FD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677DC8-F3E6-4C53-8198-6D68942C63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64B12-01BB-449F-9CE9-64F0E10F08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4958B-5990-4169-BB99-D6F2850F3C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44A265-D9F6-4733-8961-5A391EA1898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3681D-CD84-4961-B4BB-4A6BB64092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FE191-759D-45A3-BAF2-ACC13C1692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B750D-758D-4540-82F1-D1A2E30389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16EF8-BD3D-4E2A-A13C-ED99F3CA9C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2DF19-850D-4777-8672-D807DED1D7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659B8-CC8F-49E1-9210-DEDE0BE5F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CF89-1D96-4360-9521-C9DE44CE53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7435F-7176-4518-B827-4B509849DA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243D-16EF-4ADA-8DB1-9B68C8D5295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67B7C-1413-4CD9-998B-F002B4867E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58F1-35EF-4DE5-9636-6695F4429F9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BE742-B593-4629-8BFA-ABEFA51E68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AD6AF-E2C3-479C-9364-0042F538A72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42A72-2E72-4D4B-86A8-1AF1CC71DB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8185-6CAB-467B-8C5C-DAAB6F1FA6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FBB90-C840-48BF-9346-5529E6B0C2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3330-8AEB-4AA3-968A-FE232B196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D03D2-3C4E-4654-AD8E-D34F5D94F2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2BD1-C60E-4C30-93E6-F85329A20FC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4E4E-0D20-4520-81F2-A88048AE71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A001B-D253-48D6-B216-67900098AA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6A350-0D4B-4B00-8D92-01428CCB80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FC1A0-D877-4288-A603-BF6E169BD0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BFD62-8426-4AED-B97F-475CAF61A3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CCB48-2915-4FC6-A8AB-66B5D6167F1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EAEAF-2C39-43CD-A197-35C9BAC9C71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025DF-B74B-485E-BC49-C02388187A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5F831-07A9-4809-9A86-D6F2B9C7B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39AB-4967-471C-9E23-DB79E3D6B1A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AC6EE-BFDD-4933-BBA1-FB52DEB590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1A684-D73A-474D-BD7D-76E39F8E53A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B525E-E0B9-4082-8ADF-D1E90406DE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E48FB-BD22-4AEA-A2CF-59007834A1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CA94A-F5C0-44FC-A6DC-94BF0E430EE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DDD5F7-8607-41BB-A621-4A4F7528B90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48A261-F75A-447B-A6E2-CD257CF3C66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C6D97-CA08-4E9D-9B73-DDEEA376CD9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E71C82-C84C-4E81-8514-EB6E29BCFD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0A716-FC4B-4DF1-A5F1-0B52D1B1B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1661-E218-4B2C-AB44-982B6A964A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E9FFAF-1E50-4CE9-841A-189605A03FF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40D901-D07C-411B-9AC7-7110C9F1D5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E0816-D59D-48ED-ACA3-90378BAFEFD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77084E-07BF-48DF-BD25-7D817AEE442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A1136-7D20-4A59-8477-D9677ABD49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0CF51-C01A-4471-9E0F-6D1F7F2394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D4F535-1BBF-4DA0-AEDF-C886C0B043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826DB-00AE-4B2D-BA07-6286552516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C471-B233-4638-BEF3-8A769633590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0257B-72A5-4D44-B6D4-7F74F7AEB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5E51-7D3D-4D68-BE5F-2749DAE2610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B46B-BE2B-4625-A4E1-E88B139773F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1054-EEC6-4589-80B6-B4855A45F78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C187-DA33-4AC3-9809-615A6690CAE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5F54-FE8E-44EC-B941-EDE60C36880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DD4F-E97E-4F4C-AE79-0D66FC9EDA7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E85D-BED9-4538-8D8B-598A8276E78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870C-C93F-4B3F-8181-7702C04F523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CABD-9296-4E48-BF4E-CF94342C145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3DCB-AB62-4047-8414-A08ACAFE982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C1B6-34E3-46E8-9965-B476DE9CAC4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524E-AB9F-4BB8-92B0-0A4A56A28D7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35CB-1E59-41DA-82ED-DB938C19162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15F8-7FDC-4F83-8842-F74F7F3B825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5320"/>
            <a:ext cx="8227800" cy="39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3 – SoA Maturity Model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F86-CB78-4806-8D5C-D4E8B29695B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ssessment Methodolog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ain points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define the scop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figure assessment frame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ssess current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termine future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gaps and determine th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oad ma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velop the final re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98E5-E4A9-44A9-89E7-6CF34CB96B2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enefits of Increased Matur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45880" y="2234880"/>
            <a:ext cx="8669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ilo (L1) to Integrated (L2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egrated to Componentized (L3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mponentized to Services (L4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s to Composite Services (L5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mposite Services to Virtualised Services (L6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Virtualised Services to Dynamic Reconfigurable Services (L7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8C23-6F66-4B4D-877F-C37100E4EBD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Product  Perspectiv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en used, it is required to either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ustain or improv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matur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turity levels , business dimensions, domains and indicators a product addres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upply as an individual product, managed service, software as a service or to enable managed service/SaaS provi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ystem Perspectiv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de auditable, continual, incremental and planne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mprovem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of the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lp to determine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eturn on Investmen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each component and for the overall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st support the increased demands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rporate Governan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mplian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79C-9A3A-4F1E-A978-318BBD34C83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wo Simple Case Stud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um sized organization facing IT integration issues due to a series of acquisi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ll facilities management product development company facing increasing competition from SAP based solu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2262-E89F-4AE2-AA2C-BE1D2B9999F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C9E8-94A0-4CE2-95A2-D57375BD999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turity models en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ganizations to assess and improve their capabilities and operational performa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ppliers to position their product systems, tools and applications and to identify new opportun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OSIMM is a comprehensive framework that is easy to adop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8702-9619-4A53-9431-C96AD8C1182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656E-20BB-4696-B449-7864F997051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roduce SoA Maturity Models and examine the Open Group’s Service Integration Maturity Model (OSIMM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an organisation can use a maturity model to plan the development of its own systems and/or products and to be more innovat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1DD0-9D9E-4C39-8C9C-9B65755309A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SoA Maturity Model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re are several such models available.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y characteris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30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dentifies the ways in which SoA capability can be quantifi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30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flects the most primitive of starting points and optimal, aspirational finishing poi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30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dentifies incremental improvements which reflect technical and business need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DAE9-127E-427D-9356-25FD9C1091E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Simple Maturity Model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651960" y="788688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onic Software – http://www.sonicsoftwar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2258-DB9F-4872-A466-665CFB1E257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6" descr="soa_maturity_pyramid_500w.gif"/>
          <p:cNvPicPr/>
          <p:nvPr/>
        </p:nvPicPr>
        <p:blipFill>
          <a:blip r:embed="rId1"/>
          <a:stretch/>
        </p:blipFill>
        <p:spPr>
          <a:xfrm>
            <a:off x="406440" y="2343240"/>
            <a:ext cx="8283600" cy="5251320"/>
          </a:xfrm>
          <a:prstGeom prst="rect">
            <a:avLst/>
          </a:prstGeom>
          <a:ln w="0">
            <a:noFill/>
          </a:ln>
        </p:spPr>
      </p:pic>
      <p:pic>
        <p:nvPicPr>
          <p:cNvPr id="650" name="TextBox 8" descr=""/>
          <p:cNvPicPr/>
          <p:nvPr/>
        </p:nvPicPr>
        <p:blipFill>
          <a:blip r:embed="rId2"/>
          <a:stretch/>
        </p:blipFill>
        <p:spPr>
          <a:xfrm>
            <a:off x="2914560" y="6900840"/>
            <a:ext cx="2054160" cy="474840"/>
          </a:xfrm>
          <a:prstGeom prst="rect">
            <a:avLst/>
          </a:prstGeom>
          <a:ln w="0">
            <a:noFill/>
          </a:ln>
        </p:spPr>
      </p:pic>
      <p:pic>
        <p:nvPicPr>
          <p:cNvPr id="651" name="TextBox 9" descr=""/>
          <p:cNvPicPr/>
          <p:nvPr/>
        </p:nvPicPr>
        <p:blipFill>
          <a:blip r:embed="rId3"/>
          <a:stretch/>
        </p:blipFill>
        <p:spPr>
          <a:xfrm>
            <a:off x="2481120" y="5834160"/>
            <a:ext cx="2955960" cy="4744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10"/>
          <p:cNvSpPr/>
          <p:nvPr/>
        </p:nvSpPr>
        <p:spPr>
          <a:xfrm>
            <a:off x="6761160" y="3035160"/>
            <a:ext cx="180972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6392520" y="4000680"/>
            <a:ext cx="21816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12"/>
          <p:cNvSpPr/>
          <p:nvPr/>
        </p:nvSpPr>
        <p:spPr>
          <a:xfrm>
            <a:off x="6438240" y="4965840"/>
            <a:ext cx="212976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Respon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6701760" y="6845400"/>
            <a:ext cx="18936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6146640" y="5880240"/>
            <a:ext cx="248292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Cost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TextBox 15" descr=""/>
          <p:cNvPicPr/>
          <p:nvPr/>
        </p:nvPicPr>
        <p:blipFill>
          <a:blip r:embed="rId4"/>
          <a:stretch/>
        </p:blipFill>
        <p:spPr>
          <a:xfrm>
            <a:off x="2712960" y="4797360"/>
            <a:ext cx="1109880" cy="719280"/>
          </a:xfrm>
          <a:prstGeom prst="rect">
            <a:avLst/>
          </a:prstGeom>
          <a:ln w="0">
            <a:noFill/>
          </a:ln>
        </p:spPr>
      </p:pic>
      <p:pic>
        <p:nvPicPr>
          <p:cNvPr id="658" name="TextBox 16" descr=""/>
          <p:cNvPicPr/>
          <p:nvPr/>
        </p:nvPicPr>
        <p:blipFill>
          <a:blip r:embed="rId5"/>
          <a:stretch/>
        </p:blipFill>
        <p:spPr>
          <a:xfrm>
            <a:off x="3029040" y="3919680"/>
            <a:ext cx="1866960" cy="658800"/>
          </a:xfrm>
          <a:prstGeom prst="rect">
            <a:avLst/>
          </a:prstGeom>
          <a:ln w="0">
            <a:noFill/>
          </a:ln>
        </p:spPr>
      </p:pic>
      <p:sp>
        <p:nvSpPr>
          <p:cNvPr id="659" name="TextBox 16"/>
          <p:cNvSpPr/>
          <p:nvPr/>
        </p:nvSpPr>
        <p:spPr>
          <a:xfrm>
            <a:off x="6870240" y="212076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632D-6B43-4B95-A376-D377C3C490A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pen Group’s SIM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System Integration Maturity Model i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odel against which the degree of service integration maturity of an organization can be assess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cess for assessing the current and desired degree of service integration maturity of an organization, using the mod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026F-4B3E-4DB4-9C1D-ADBA838225D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SIMM Maturity Level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74840" y="2234880"/>
            <a:ext cx="72849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7 – Dynamically Re-configurabl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6 – Virtualised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5 – Composit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4 –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3 – Componentis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2 – Integrat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1 – Sil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Up Arrow 5"/>
          <p:cNvSpPr/>
          <p:nvPr/>
        </p:nvSpPr>
        <p:spPr>
          <a:xfrm>
            <a:off x="8115480" y="2959200"/>
            <a:ext cx="253800" cy="453384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7462440" y="194328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7551360" y="741672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22A8-B5E3-4551-9DA6-EE77F2070B5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rganisational Dimens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6275880" y="2146320"/>
            <a:ext cx="15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6118920" y="7201080"/>
            <a:ext cx="187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Up-Down Arrow 10"/>
          <p:cNvSpPr/>
          <p:nvPr/>
        </p:nvSpPr>
        <p:spPr>
          <a:xfrm>
            <a:off x="6934320" y="3213000"/>
            <a:ext cx="241200" cy="3949920"/>
          </a:xfrm>
          <a:prstGeom prst="upDown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CC9D-42BF-4BD5-A4A5-067143E15EE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Domains &amp; Maturity Indicator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main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is a sub division of a dimension for which an organization can be measured for its SoA maturity and for which there are maturity indicators (or characteristic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maturity indicato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a measure that is assessed by the asking of specific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614A-2066-4833-A733-AC7EC221C3A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Maturity Model Matrix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25440" y="2298600"/>
            <a:ext cx="8420040" cy="5867640"/>
          </a:xfrm>
          <a:prstGeom prst="rect">
            <a:avLst/>
          </a:prstGeom>
          <a:ln w="0">
            <a:noFill/>
          </a:ln>
        </p:spPr>
      </p:pic>
      <p:sp>
        <p:nvSpPr>
          <p:cNvPr id="686" name="Right Arrow 5"/>
          <p:cNvSpPr/>
          <p:nvPr/>
        </p:nvSpPr>
        <p:spPr>
          <a:xfrm rot="19353000">
            <a:off x="252000" y="4890600"/>
            <a:ext cx="9705960" cy="60984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ff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0:08:51Z</dcterms:created>
  <dc:creator>C Smythe</dc:creator>
  <dc:description/>
  <dc:language>en-US</dc:language>
  <cp:lastModifiedBy>Colin Smythe</cp:lastModifiedBy>
  <cp:lastPrinted>2008-02-19T11:08:18Z</cp:lastPrinted>
  <dcterms:modified xsi:type="dcterms:W3CDTF">2009-06-05T16:44:02Z</dcterms:modified>
  <cp:revision>258</cp:revision>
  <dc:subject/>
  <dc:title>No Slide Title</dc:title>
</cp:coreProperties>
</file>