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C373-7D52-4982-B3E4-AF098DF45E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F621-1B28-41A8-AC9B-8E2D324C16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3A27-A32C-4D90-99C9-275FD150F8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70D1-DF0F-439D-BB2C-41F20E2A5D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6D3B-326A-48B0-860D-B06551CBAF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B414-7645-499C-A239-6D93F8E285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2BD5-8578-475B-B875-FE6418E43F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2B48-EA86-4467-8A4A-C6651C8821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4AEF-E63A-4AEC-9E39-FE5C45A6FA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ADFE-2ABD-4EB4-881F-C1798E76AF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FF1E-BBDA-454D-9BC3-B9E63832E9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4ADF-3BC3-42FD-B2F7-121FEEEE22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AD08-B706-4BC9-8B23-B45EEC6E54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2CD4-A663-4322-AE37-3010294A68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E748-8671-4614-812A-D83D4C880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E6CF1-9FE2-4E62-B400-EBE973F87E1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0D3EF-D723-4DFC-97FC-42B95452D52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CF391-BFB7-4F88-8D1A-01079A9E852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2D32C-E67A-432A-8B04-F4111D4CB55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CB1A7-2F94-450D-811C-E0D253F2AD0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660D4-CE92-4345-A8A9-EB1C1A63D4B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D4CE4-E086-4F39-9B74-CB8E83D8B25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6E100-033D-4007-A648-0C92CD93911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58BD1-E7BD-41AB-B7F8-BAD8F1FBAFE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64152-F5F8-42D5-8E2F-31969F64990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9A6BD-6E85-487D-9049-09A87E08D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245CC-7A7D-4F8F-8653-84F34CCD106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7255C-22DE-4E98-89BA-3570DCF4F94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4B307C-78F8-4172-B23B-1B234FB3478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5B4DF-E4CA-48BB-B0C7-488B50DB76C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CD7B08-FAC1-4CAF-A371-10DD5D863A6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22CCD-BD09-405E-B3C6-EDCEFAD590D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1F9F6C-3D16-4778-8391-C25B7D00549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726E11-631D-42CB-A226-AE6A168F7D9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F2F6A6-8C95-4467-89EC-435D5EAB6CD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89D92E-AB8C-42E0-90BA-B0BE7844DE3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EB19D3-B92C-45A6-B87C-5034A7A48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211A8-AFFE-4364-B192-EAE04F16A19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920D2-5B1C-4099-998D-4E0612EE609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BDC3BB-FD4F-4C08-A11E-AF528830997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D678D5-C692-4374-B0C0-6114BE5C223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7A2270-21DC-4582-B4FD-B328BFE3418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20EC2E-8949-453C-97C0-EC5DC91D499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3818EB-7319-45EA-99B8-7E9AC067F48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E20C1B-0C2E-4029-8BA3-F62CD682834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38E8AF-D80C-41A7-B06E-5F72392C206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052447-3880-4F7D-B9DC-327CC509CC4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C42D91-A53A-46D1-839F-AC7329BA4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1584D-45A4-48AC-B82F-16D097EE9FF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DDB845-E145-49B8-B5B4-3D421A39B6F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202FF3-3100-48FC-B2AA-61737ECAC02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AC9025-EAB6-4982-B6C8-A969604F5A1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E7B7D-CB58-40E5-B033-11D92B89FDD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989B9-1D86-4CC6-AF9A-F1400020D77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FF0D9-98DF-47A3-8792-0A2225E0381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D002E-A61B-46E6-A594-1EC7F8AB19D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C01F0-A07E-4DF7-916F-63DC2DFB0BB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AFD84-3EAC-4591-AEDC-4F8829D968E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C32BB-19B1-4EC1-B79C-6575777140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E6216-8579-4505-B597-186963674AA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72FBA-FAD8-42FF-823B-707DBB67124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BBEB3-80FE-4651-AD0A-DD2B2C5054D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83A77-0A83-4EB8-92E4-4E36BF75F64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5E532-B219-40D1-9F9C-C09721CCFC4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8A93E-0E79-40FA-8D4A-DD7AD7BF0FA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E4CABF-EDBE-4DB8-B7DF-91373726DBB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C9B553-6010-4D00-9D29-A72E34F476C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7035A6-3D62-48BB-A841-269302937E3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8BB632-38E2-4915-A30C-F568AA3CD72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F25974-A49B-4802-A38B-23538C179D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52324-4FB2-4205-A82E-9D93DEA8691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493688-E271-4439-A4BB-FA706A0F881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49EB6C-4953-4E32-AC2E-82DCB5D5427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CD8782-BCB0-4B19-A86E-4644028859F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112B60-BC15-4716-B704-CB3E8759A9D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7329B1-2C13-4827-8DB5-813D79769EB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815A39-50D2-4AD8-967E-6FA179FD770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633107-87B2-41A8-AFF6-F791475A4F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C7060-AE0F-4A3A-8799-B98E98C31D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D5B4A-514C-4F83-84CB-5BA85BDA07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BCEC3-27B3-4206-B1B1-D2240B8EA4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15658-E43B-4045-A184-2D85D3F55B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E274-BFD5-431B-94C4-255E6EA15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58638-EE2F-4841-B189-8D6F200030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6F74B-17DE-42D0-8016-63F57C7BFA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DE9AE-728C-4AC3-92DF-60139E5224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409B5-C8DF-4014-8195-84AAAF8F6A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90A38-6469-4104-9CC7-7AEB8544FC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E647-71E6-47D8-AC99-8B714BD955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AD00-59C6-443A-B0EB-18F0FD4504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7504-13FD-459D-882B-54B207B55C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247A-23D3-466E-ADAB-AEDF1AEAF1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0E99-7B30-4A09-B998-A21A59F932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CAD3A-617E-47CD-A5FB-9A4060C27B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6CA8-48DA-4347-81CD-ECD4975FD6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84DF-8885-4545-903D-2AFA6A04AE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5751-16BF-406E-A20C-C25586E5ED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4205-7CBE-405E-B5B9-A25D63FAC0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8E63-CC7B-4E6A-AA0D-B48427842A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90B0-679E-4B34-8A9A-DE66FED538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3F09-BE38-4DA5-9DC4-900FBD8E5D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67E76-A8CE-4ACA-8A63-35F40044A6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9C5F5-DD3D-48D3-968D-848E98F2FB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5EB78-C631-4E65-87BE-943F279B1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A5459-B45E-405B-A5CF-2DD307F410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701D4-51D3-425B-B1B1-BCEDAD1D20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98FE3-84D0-4377-8F08-7A26B8BA3F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4C86B-360D-46AD-8596-6983B91B06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854FD-D2BF-47C7-A853-3EF4CEBB6C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2A59E-EA84-4C6F-ACF1-2367E5C40E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420C2-F329-4B09-B966-073FDB04DD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07AA4-F47E-48C1-BC90-80EDADEDEF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E961E-D35D-47C4-A276-1452A7EB04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FF586-15E3-4A14-83D5-E5C80C88F58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3DF85E-C746-4DBB-B797-EC3DB1786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8956-0E93-43A8-B5D4-8EF7F011B02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AB52EA-DC25-4298-82AE-ECFE5649F72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577889-148F-457B-A49C-FB7BCEA8DA8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C53128-9636-4552-AD04-6F5A40D1305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3FBCA4-FE0B-4C45-95A1-458B9FAB085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EE4F1D-CFF7-408D-ADF0-01E95F461D1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FA6C6F-4BD7-48F9-AD31-F17C1D901B2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31BB25-B0C1-4725-B022-71730F217F0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6C6910-B261-4C37-9648-67961828AA1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E689B-CFAE-4B53-8D28-EC4C639A31F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D3D239-5AE0-4C84-B49F-18EEA8B3F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8269C-9DEA-46AE-BC7E-0B58EDBEB06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F88926-3657-4124-A881-BFD31BA2946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23835-CA1B-4D0B-8FB8-FE01CA8091C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5EDCE-879E-471F-B9EC-7D36866A030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3630E-150A-467A-AADF-AF7043528B3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61243-D217-4146-AC8D-8A5C55C1242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EADC5-9A8A-4A0C-B1EC-45D525150AE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6D476-E0CC-4D3B-BD19-9F0F4F5F247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6A958-2257-455B-89E0-420C8E69FF0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F520-37AB-4024-A194-CBB87430641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BB868-2954-4CE0-A296-C781EB981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F23E-330A-45E4-9C76-43DD05E6D1C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9FDF9-8ABD-4AB4-BCF8-35AFB090920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F10A-17EE-428B-814F-A5EA1420B2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53B78-EB36-42F3-BEEF-D70173282FB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A605BA-4A69-4BD9-B96A-B7BDA6BCF8D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3F2CC-8C66-4A86-AA82-2B25F9498B7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33C71-83C6-4D91-820A-8A588684421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0F94A-A726-429A-AC10-2945C562334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22AB0-DBFF-4865-9DFE-0843D3DC674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A94B6-D02A-4E97-BD96-5C29E727B7A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8C9B7C-0D98-4D37-983E-57A35DBF1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3CEA-FCA9-43FC-9A55-88F3B7E0DD3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D7380-2B51-47BC-A99C-0A115F10751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A6BB7-465E-48F7-B642-15609AC7528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C65E7-F18D-479E-ABCA-131E6822011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6A088-D724-4464-B4CE-52C5D2571D2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A156B-C1B5-4ADE-B2B9-F878E60009D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CB1CD0-5CB2-4DC6-95E7-DF95A24D4B3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C7CB8A-39BA-4AD3-B09F-2A645FF14EA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FC7BC0-BC43-4910-AAC4-FF176206A94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147461-F549-4774-8B09-8E3C799F4A0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34FADF-4ED3-40CF-99EB-7FAC49685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90BC-C70D-4BB1-8B7C-242473D6B8E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AD915D-9D0E-4959-B8CB-462B7AD5BC8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429306-B650-4CA4-B6E4-9A0591C7247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BBC632-A055-45AD-895F-67B3FFA6261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6F866D-9480-4F8D-851A-90B5B470CE5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33A191-A63B-4509-9C9E-65DF96A0B76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081334-8E0A-42CB-9A00-3C26D804898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04A3AB-A15E-4FB1-878E-FAEB3005767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FE12A-2BA8-46C9-8ADA-FA0E2D33AC9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186F7-12A2-433D-9B71-875959A769E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FD1BB-4C6E-4D95-92AF-17A1FCAE6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8D56-C91D-4E60-BD02-6AB7FBF0496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9D82-1CBF-45F0-A898-6D264DA58B1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371D-83AB-4EB0-91D7-6A0CCABA7C1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7E84-E153-43A8-A6FC-01AB8898575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4D58-DCB3-4DA5-BDE8-59A9B213060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4682-5299-492D-A949-58155174BE3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D5A9-B260-4E81-AC75-1D9201912BA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59ED-032C-460B-B798-C7B6F5166DB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6F7A-C88E-4A52-BE4E-51F816058C4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37CD-80AB-43BA-AB78-1470FD0C86B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413D-2323-4C00-A02F-90BC91BE970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6FD5-9AB7-4682-8433-92E46131576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EF28-1FF5-430B-B1D3-257E091EAF1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66D9-E606-499C-B1F2-1765453E881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2 – The Business Perspective &amp; Opportunities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F6D4-1F89-4309-8DBC-92DDB8C8FB4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Product Migr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volution or evolution (consider the architectural implications)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hat do new clients require and what will old clients suffer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and define key service interfaces (internal and external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ill be the support and maintenance implication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se Web-based update servi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D810-5A68-40FA-AC9F-1FE46786F40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Business Process Modelling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nderstand the operational processes of the organis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odel the business processes and identify information flow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ptimise the model and identify the operational chan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fine how the operational changes are to be realised (inc. the technology changes e.g. SoA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hange Managemen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10760" y="2196720"/>
            <a:ext cx="432612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User Focu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placement of manual processes by computer-based proces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void the natural negative reaction to new syst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rticipate in the requirements specific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618080" y="2171520"/>
            <a:ext cx="399240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veloper Focu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service-oriented desig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ine the development 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sult users throughout the 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AF63-7FE1-4811-BF3F-9A5DDB30EF2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Return on Investmen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uce duplication of operational activities and information stora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uce maintenance and upgrade costs via remote user sup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uce reporting and auditing costs with increased accuracy and timeliness of inform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venue opportunities through new services and featur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C132-11D8-4887-ACDC-7F11614B24F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echnology Consideration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74840" y="2234880"/>
            <a:ext cx="822456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owser-based User Interfa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terprise Service B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oud Compu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rtualis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ftware as a Service (SAA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tform as a Service (PAA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rastructure as a Service (IAA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15C4-A9C3-44B0-A836-65D45230C12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EF96-3E85-442C-B3F8-FFCA9AFDA74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43080" y="2234880"/>
            <a:ext cx="839448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used wisely will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duce cost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crease efficiency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facilitate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 every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 process benefits from using So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main business drivers and the expected RoI for using So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Do no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se technology fo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 sake of the technolog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7C5F-4E58-4E1A-B693-81A9F44FE8C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BA44-7AAA-4E19-83DF-31DBF2E7EB7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474840" y="2235240"/>
            <a:ext cx="813564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the business process issues to be considered when preparing to adopt So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when and why SoA may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be the answer to a business IT problem and how to identify when/where SoA can be of benef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to identify the possibl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turn on Invest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ommercial Impera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4560" y="2196720"/>
            <a:ext cx="426708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duct Develop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duce product cycle times and development cos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pansion into new markets (large and smal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creased need for Enterprise integ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18080" y="2171520"/>
            <a:ext cx="413208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Provi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flexibility for chan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terprise integration due to increased compli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longevity and reduce cos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F9D3-E868-4A60-AD73-0309C50ABF3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FA70-A1CE-43CB-8D9A-59840A68467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Integr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cquisition and mergers driving business and technology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udit demands of corporate governance and complian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creasing market competition and need to identify new marke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quirements to increase efficiency and effectiven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9452-50CC-4499-81A3-82AC5146E5F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Horses for Courses”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i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the solution when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a small percentage of an organization’s IT budget is spent on integration activi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ajority of an organization’s processes are manual, with little opportunity for auto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peration of an organization is managed by ERP applications with little or no integration requirem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CBAB-6A70-489C-8959-2DBC2BC57CD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Divide &amp; Conquer”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 service ha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high cohesion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low coupl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business proces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transaction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required of the servi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use existing services whenever possible, create as a last res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nsider reusability when designing a new servi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DDE2-E7A3-45E2-AC9C-7936BDD81F4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 Design Paradigm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ardised Se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vice Con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rvice Loose Coupl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Abstra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Reus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Autonom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Statelessn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Discover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Compos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363C-E9E0-4B92-853E-28F2665D5D5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Interoperabilit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ability to connect together system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without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requiring new integration development wor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moves the need for homogeneity but still requires consistent semantics for inform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quires a set of well define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terface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(internal and external)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28E2-0939-4852-A142-B04461D3733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pen Solution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74480" y="2235240"/>
            <a:ext cx="8135640" cy="61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nce an interface has been defined and the service realised, should the interface be revealed as an API and/or WSDL fil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encourage other products to integrate with your produ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s – become the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de facto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interface standard for a business secto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No – to maintain proprietary advanta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8:28:14Z</dcterms:created>
  <dc:creator>C Smythe</dc:creator>
  <dc:description/>
  <dc:language>en-US</dc:language>
  <cp:lastModifiedBy>Colin Smythe</cp:lastModifiedBy>
  <cp:lastPrinted>2008-02-19T11:08:18Z</cp:lastPrinted>
  <dcterms:modified xsi:type="dcterms:W3CDTF">2009-07-03T13:04:12Z</dcterms:modified>
  <cp:revision>263</cp:revision>
  <dc:subject/>
  <dc:title>No Slide Title</dc:title>
</cp:coreProperties>
</file>