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dt" idx="2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Img"/>
          </p:nvPr>
        </p:nvSpPr>
        <p:spPr>
          <a:xfrm>
            <a:off x="1714320" y="685440"/>
            <a:ext cx="3429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ftr" idx="2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sldNum" idx="2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1E53-5DB5-4A48-8DF3-1B2F1212DB8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1BD2-C212-41FA-956B-80D9AAB7D4D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9C46-FCC7-44A8-8666-42BEA5B2173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E833-7151-4456-8DF6-59243A5618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C74E-493D-49E5-910C-99511131E37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9F03F-4A8D-4611-8379-E90DDED70B6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6FEF-A700-49DE-9870-7101A94E8ED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06F1-14E8-4E7D-8C8F-16BC5136DD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A648-37B6-4739-BBBA-2A9404C9FF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3A34-A0D3-463A-81EA-DD363BAD8B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1BD5-8E53-4B56-8AF7-AB66EA5B3B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3D20-FB43-404F-BB05-8DAA87D48D7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9410-A2C8-4FA4-B298-A6E38D0AE83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F9C9-8340-40AA-A3EB-50C6184BF6A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714680" y="685800"/>
            <a:ext cx="3429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63FC6-AAEE-4F23-94D0-06DBE5CC8E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77ED7-B7A2-47AA-BEC5-9A617BA343E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FE726-9C99-4D97-968C-AA8B89658DC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490EE-7601-43A5-8AFC-E904D01F695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7D651-FBD7-4B91-9684-FBF26A189BC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A3AAF5-FAA6-4FBA-B495-61EB91A88C6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E43C6-105C-4A38-9CC9-8ACB8F38BC2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A1B547-CEC8-4097-B78E-208129B66D1E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E19D7-BD54-4033-B613-7B0149BB0B6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5CCC6-B79A-4422-B1D2-4AABC352313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1D0D0-42FD-488C-91D9-1DE5FC9D238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1AF5DA-6EA3-4433-BB4E-EBDB72EEBA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AC88D-856E-44ED-85C1-E054C9356BF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02A281-568D-4755-B17F-D8D18514CED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96A9AF-4BED-4D87-AD36-20990813345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822C05-C458-4D80-842E-FFDBFA0FA493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71CEC-5D29-4084-8F77-0826462E94D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37537A-41D7-4E98-9243-C91DF8D60AB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128DA8-CF49-4969-80C3-FE613DAED29C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8E1C88-A477-4BFB-AD5F-72157A0F776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9CB2A4-B8BD-46D0-8C05-4D8EA31C23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0829D-CC4B-4869-8CBA-A333255AA10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7CC69E-73C4-47A6-AD21-6DBFB432EC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756F6-41B5-4EC4-B490-AADBF4450D9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A66B81-CB1D-415B-8070-B19FA324BC6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169395E-DF2C-419C-8C6D-1B99AEBC83E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ADD16D-070C-4D85-AA83-4B240F83712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DFA53FB-7AC5-41AE-864A-61042C88EDF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CF52B86-24DA-44FF-A85E-22DA517A51BC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904474-4D3D-4ACE-819C-BFF8A5430FC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A8F557-BFFD-4EBC-921A-AC0199A1CD0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49AF33-714F-4AF0-8BBB-945880BFACF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497486-2279-4E2E-8B8D-14E516CA0A7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D9083F-A20C-4149-89B8-61703A597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EBC036-A1A1-4BB0-ABA6-0733EA45DC5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FE83A5A-BE6D-4F47-90F5-E4751D3E42D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095B06-B104-400A-91C9-A9015B9D0E21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3F53B14-2A6D-426B-9B2D-5D6A06F7A20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8A9F3B-7DF8-43EF-A874-DC90A1BB00A8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F92B5-9634-44B0-AA57-A973360AE66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CAA7A-93AC-46D9-826B-16CF30CCEF4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ED90F7-3261-4FAC-9856-A38F9862958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EC9A9-BC3A-4B07-BA26-C8C1196B302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5764D-A70D-442C-A090-164E506E6F8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55AA9-64DA-404E-8F6D-A0AB722446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E4E6EF-24A3-4ACE-87E5-D97957DF936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0F9E4-11E6-4D99-B5A8-99610040C04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3F38DA-0D4C-43DD-8AC4-1E1F4D0AC17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BE952-BDD3-483A-9B84-511A4A49442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FE691-8FFB-4710-BB1E-899C70DE7F5A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6AF0A-2FD0-4A3B-B630-64B32B9D8F2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1C179F-01DF-4CBE-967A-A3D44998315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BAD5DE-BF8A-4E23-ACCA-1F616D5F2E2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621534-359C-4AA2-A62D-94A9F48935C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7EC79D7-4815-4C25-A0D7-BCE330E44A6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3C0288C-E097-4406-B721-6C0C534E88D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7079E-A083-4279-9B2B-52688B2978C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58AA9F4-0E75-43CC-AF6E-E4F5D2047A8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91D6B6-EFF8-4F0F-96FA-3827B23AF5E0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DFC739-A5FC-4485-8BE4-3649DFD81EA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8B8B74-603E-4FA2-959F-3865E57443F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239B2-D843-4A5D-B97F-2B67832E27A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A3AE26-F7B9-450A-9B3C-828E92B8033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E8C6A2D-D7A0-49A8-A6A7-2AC52C86B4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F9BB6-99F3-406E-9DBD-FFBDDB577D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DD497-34C0-4046-A0BC-41AC67E21B5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6CCE10-3FF8-4F02-9C24-C0FDB028E7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E4304D-C20F-4FDC-8E1A-1C492A10F8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33770-8B0A-45B4-B272-C21993EFD8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20DC4C-E21B-4EFA-8E9C-FD9A229786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15A58F-781D-48A8-8C60-78DD085F092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B49184-D33E-4455-BD83-C23137782F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26C1D-A5D4-4157-9138-FD55F1D3796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DE325-EE0A-4EED-8122-E99F09E112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7420-1E12-4C76-802D-FB894D7606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5BE5F-3303-452E-9224-175D4CEFA1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8D86A-6CB8-45B5-B661-9BBA451796F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C0B3-29F8-4913-A0C5-17EF7E61314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0D37-AFB4-486F-BC36-12867C10FE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9B7BD-6BB3-4733-B312-54A9F8C339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6233-1DA9-4457-A137-21C0C9130B6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905E-6751-4FF0-9DDC-15D8B77A0D3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FD98C-3BBF-4B90-992C-B5069B9866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6294-C55F-43BA-87FE-526F5FD575D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9DC8-BC98-4A3D-97E5-292AAB8E69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199F-2F0A-469A-A51C-B7A6A4A38B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986C-7204-40D1-B1A3-C11FA0B765A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9443F5-FE2C-40B4-BCBB-8BF83800E7F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FF8A1-476D-4D7F-89F9-988E9B65ED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CCBBDF-75C8-4BDE-96A9-B0D4BC88B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A5086-8388-47FD-97C5-3A64FFACD81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3FCB33-4967-4E61-8CF5-E824576376E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FBED89-553F-49BB-BD9B-4CC2FAA8BF5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80DE6F-3B97-4776-BEF4-EE9D57D2944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0B5CC6-2C5D-46AC-A092-47E56FDC594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B174D-4F0C-46E9-BD0C-CC8B1CA4487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D31F8-6A5D-47EF-AF49-1D6A255F76E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036D35-C870-49A3-86E5-21516DD4EC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5F9DD7-53AB-4EFD-8CD1-6FFAEEADD38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270178-2C3E-499E-9F66-468D9225984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403884-3EDF-40A7-BEA4-9F9EC87AA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B0D8A-69E1-44CB-815F-1694D816DAC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01E5B5-3827-4054-8542-6C38461BE85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5DCAD4-FEEC-46A0-BE7D-3BD173418A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DC16B8-CED9-442A-9ADA-E8FA31AB4FA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2781E6-B208-415C-A80A-5C55E3770C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B2DB83-6AD3-45E1-A62C-C993E871505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6B3B5C-79EE-4DC7-82CF-58AB22818E2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AB5140-F6F3-49CA-9939-CFD35BD0E08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9F9CC7-9579-4426-B3A5-9B133130D60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2CD52C-5029-4AE7-864A-81491E18770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9EBAB5-1B7C-4134-B458-5EE70A47D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81BC9-29AB-4EF3-A6BC-CCECEA90E49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CB0BF2-900B-4B48-87D3-D569DE30CCD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DEE76-7454-4405-8FF0-CFA494AEEC40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A6010-2845-4202-8ED8-C888A54A4C8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773F2-21CE-4473-ACD5-B9C69E176BB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D1417-A772-437A-AAD8-501CC73A97E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67D44-6FFC-451E-AB65-2505773988F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9064C-85BB-45B3-93E2-A89EE4BD626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5AD0A-D294-43FD-931D-ED4F912E302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109B6-C244-4EE6-B386-B36557E5E86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24EA5-589D-41BC-9ADF-298A654D4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61EC9-19EB-43D3-872A-23B03B2BE37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656DFB-2270-410F-B681-F21DB7F844B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AF3E3-8FFF-418A-9FB1-D36C2EA8AEB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F7096-1BC8-4130-A340-54F6CC3E01A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55B0AB-8DF1-4493-8351-EF18D4F31D0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6DC35-E911-45A7-8A4C-C4A80C08918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A840D3-1BFB-4E5D-9716-EEF34D4B780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6863CE-C9CE-491F-A167-5317B3771DE5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28857C-1175-44AA-B8DA-433A8C9A278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578E27-EE90-45EA-9A04-338CEE76A5B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ECB63E-B839-4A94-A007-08005C8FEF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EF7C-F0AD-4B0D-8A64-548520EAB63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B971D4-45D4-42AE-B8C6-81F9A252C0B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64034C-F399-4715-B45F-7EE172A1880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E4339E-AFED-4B0C-B80E-DBDEB2149FA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3E57D8-C015-4656-BE96-BE3E6C72176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6AEB1F-2856-4319-B7F3-179891629BB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5FC276-5CF8-4932-99F7-7F5E3DB9D07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E42067-868C-4E0E-8286-DE02CEB6B0E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D423BA-D0D2-43DD-A615-80A4DB126E28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5220F1-24C9-4D85-923D-173BBF29A9B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488E4F-07DA-416B-809E-1F73239E2A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F28B2-AB98-45F8-B256-D039B5D00AD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38120" y="1198440"/>
            <a:ext cx="8153280" cy="36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6C863E-D32A-4D91-AF76-C4CAAB600DE0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0FF215-8DEC-4EDB-B99C-F4D4E7441FD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C807C07-B0E0-4BF9-A042-FFCE5AF0287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0612C3A-E779-49C4-9543-C52BC47EDF8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74480" y="5312880"/>
            <a:ext cx="813564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F6B8BF-F22E-442B-BE80-BFBA82DC3FD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43280" y="2234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744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43280" y="5312880"/>
            <a:ext cx="397008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1A25C5-D09B-4C9C-932D-3527D8BAB01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2524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976000" y="2234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7448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2524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5976000" y="5312880"/>
            <a:ext cx="2619360" cy="281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2DE19F-4D9C-4B98-A63C-1E1EDEA24FB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6CA40-5FC2-4B12-94AE-15238084F4B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F1E4D-E1B4-4534-A809-3486A52E571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A1321-DFC8-46A5-8977-8CE5C16D0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E4B2-9D2C-437B-8DD3-302E55317D24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ftr" idx="1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C983-276E-4E62-801A-3B77C0A53EF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ftr" idx="2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sldNum" idx="2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46A4-C185-4B46-8F31-6266745F893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ftr" idx="2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sldNum" idx="2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EB312-8850-49EC-845C-4CF961CDD8D1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8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 type="ftr" idx="2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 type="sldNum" idx="2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FAB1-9EAF-4DB1-A558-D2827D1EAE0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49D30-8DBA-4608-8E4A-6025427427AC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57B3-1490-4212-867C-351F609FD40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ftr" idx="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A41B-0AD0-467B-B0F1-CC53D3EF8786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ftr" idx="9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sldNum" idx="10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D39B7-27A1-494E-AB6C-C005EAFEB94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ftr" idx="11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7745-05F1-4758-BACF-8423DFEA0A2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ftr" idx="13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sldNum" idx="14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AE34-11FA-4C5E-85E7-A06C8D2C3E5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15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16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3A05D-C24A-4F43-B6DE-4EEA5A86087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8"/>
          <p:cNvSpPr/>
          <p:nvPr/>
        </p:nvSpPr>
        <p:spPr>
          <a:xfrm>
            <a:off x="8115480" y="8458200"/>
            <a:ext cx="512640" cy="51264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7"/>
          <p:cNvSpPr/>
          <p:nvPr/>
        </p:nvSpPr>
        <p:spPr>
          <a:xfrm>
            <a:off x="431640" y="8485200"/>
            <a:ext cx="817884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1"/>
          <p:cNvSpPr/>
          <p:nvPr/>
        </p:nvSpPr>
        <p:spPr>
          <a:xfrm>
            <a:off x="482760" y="1017720"/>
            <a:ext cx="8216640" cy="0"/>
          </a:xfrm>
          <a:prstGeom prst="line">
            <a:avLst/>
          </a:prstGeom>
          <a:ln w="9540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3"/>
          <p:cNvSpPr/>
          <p:nvPr/>
        </p:nvSpPr>
        <p:spPr>
          <a:xfrm>
            <a:off x="6705720" y="152280"/>
            <a:ext cx="1968480" cy="838440"/>
          </a:xfrm>
          <a:prstGeom prst="rect">
            <a:avLst/>
          </a:prstGeom>
          <a:gradFill rotWithShape="0">
            <a:gsLst>
              <a:gs pos="0">
                <a:srgbClr val="005e47"/>
              </a:gs>
              <a:gs pos="50000">
                <a:srgbClr val="00cc99"/>
              </a:gs>
              <a:gs pos="100000">
                <a:srgbClr val="005e4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2"/>
          <p:cNvSpPr/>
          <p:nvPr/>
        </p:nvSpPr>
        <p:spPr>
          <a:xfrm>
            <a:off x="6486480" y="152280"/>
            <a:ext cx="2212920" cy="838440"/>
          </a:xfrm>
          <a:prstGeom prst="rect">
            <a:avLst/>
          </a:prstGeom>
          <a:gradFill rotWithShape="0">
            <a:gsLst>
              <a:gs pos="0">
                <a:srgbClr val="003f19"/>
              </a:gs>
              <a:gs pos="50000">
                <a:srgbClr val="008837"/>
              </a:gs>
              <a:gs pos="100000">
                <a:srgbClr val="003f1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4"/>
          <p:cNvSpPr/>
          <p:nvPr/>
        </p:nvSpPr>
        <p:spPr>
          <a:xfrm>
            <a:off x="6585840" y="192240"/>
            <a:ext cx="19652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Times New Roman"/>
              </a:rPr>
              <a:t>Dunel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10" descr=""/>
          <p:cNvPicPr/>
          <p:nvPr/>
        </p:nvPicPr>
        <p:blipFill>
          <a:blip r:embed="rId2"/>
          <a:stretch/>
        </p:blipFill>
        <p:spPr>
          <a:xfrm>
            <a:off x="546120" y="241200"/>
            <a:ext cx="1041480" cy="674640"/>
          </a:xfrm>
          <a:prstGeom prst="rect">
            <a:avLst/>
          </a:prstGeom>
          <a:ln w="0">
            <a:noFill/>
          </a:ln>
        </p:spPr>
      </p:pic>
      <p:sp>
        <p:nvSpPr>
          <p:cNvPr id="391" name="Text Box 15"/>
          <p:cNvSpPr/>
          <p:nvPr/>
        </p:nvSpPr>
        <p:spPr>
          <a:xfrm>
            <a:off x="1806120" y="571680"/>
            <a:ext cx="453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nformation &amp; Communication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10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ftr" idx="17"/>
          </p:nvPr>
        </p:nvSpPr>
        <p:spPr>
          <a:xfrm>
            <a:off x="339480" y="8554680"/>
            <a:ext cx="5321160" cy="40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18"/>
          </p:nvPr>
        </p:nvSpPr>
        <p:spPr>
          <a:xfrm>
            <a:off x="8147160" y="8494200"/>
            <a:ext cx="4824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F826-4AF3-4E08-A4DA-86CB2E658745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03D1-ECAD-47BC-906D-982A8F0D9D6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93480" y="1794960"/>
            <a:ext cx="822780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Service-oriented Architecture (SoA):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Times New Roman"/>
              </a:rPr>
              <a:t>Preparing Your Business &amp; IT Products</a:t>
            </a:r>
            <a:br>
              <a:rPr sz="3200"/>
            </a:br>
            <a:br>
              <a:rPr sz="3200"/>
            </a:br>
            <a:r>
              <a:rPr b="1" lang="en-GB" sz="4800" spc="-1" strike="noStrike">
                <a:solidFill>
                  <a:srgbClr val="808080"/>
                </a:solidFill>
                <a:latin typeface="Times New Roman"/>
              </a:rPr>
              <a:t>Session 1 – Concepts for SoA</a:t>
            </a:r>
            <a:endParaRPr b="1" lang="en-US" sz="48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583920" y="6392880"/>
            <a:ext cx="806436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r Colin Smyth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Dunelm Services Ltd (colin@dunelm.com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5" descr="88x31.png"/>
          <p:cNvPicPr/>
          <p:nvPr/>
        </p:nvPicPr>
        <p:blipFill>
          <a:blip r:embed="rId1"/>
          <a:stretch/>
        </p:blipFill>
        <p:spPr>
          <a:xfrm>
            <a:off x="469800" y="7835760"/>
            <a:ext cx="1422360" cy="5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CD995-F804-41AE-8FC4-C80B46321DAD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Business Perspectiv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30120" y="2234880"/>
            <a:ext cx="844560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used wisely will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duce cost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crease efficiency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facilitate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ot every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business process benefits from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dentify the main business drivers and the expected RoI for using SoA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Do no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e technology for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 sake of the technolog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93693-4D2B-4B76-8A2A-CAEFA420093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SoA Maturity Model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aturity models enabl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440" indent="-417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rganizations to assess and improve their capabilities and operational performanc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47440" indent="-417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ppliers to position their product systems, tools and applications and to identify new opportuniti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-50148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he Open Group’s Service Integration Maturity Model is one such comprehensive framework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01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8228-B1B4-4352-ACC6-1E36F8E5BC6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Enterprise Integration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ultiple services, systems and sit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lexibility and chan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eterogeneit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homogeneit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Business process optimis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should be a part of Enterprise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ase Studi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0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Oracle’s Enterpris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Student Administration Integration Portal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(SAIP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Different approaches by which SMEs use SoA to driv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produc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Amazon Web Services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o extend the capabilities of a system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0EC85-2551-4DE5-B756-E49E9AA6C2D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Core Technolog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Web Services approach based upon XML, SOAP, WSD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est practice based on the WS-I Basic Profile and support Profil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bate about SOAP vs REST-full approach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, and separation, of interfaces and protocols to create flexible design for product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6C16-85B4-4AB0-8AE3-7ED45277CD5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10D3-972A-47B3-91A6-886C0248E1A8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Summary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72960" y="2234880"/>
            <a:ext cx="827568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-oriented Architecture (SoA) defines how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services interact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to achieve a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business objective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A used wisely will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reduce cost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increase efficiency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facilitate innov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-5281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re technology for SOA use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Web Service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ed on XML, SOAP and WSD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281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icense &amp; Acknowledgement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722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8360-B0CF-465A-BD66-82421646DA99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4" name="Picture 8" descr="CCImage.tiff"/>
          <p:cNvPicPr/>
          <p:nvPr/>
        </p:nvPicPr>
        <p:blipFill>
          <a:blip r:embed="rId1"/>
          <a:stretch/>
        </p:blipFill>
        <p:spPr>
          <a:xfrm>
            <a:off x="1066680" y="2031840"/>
            <a:ext cx="6858000" cy="62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0D7C-ADDB-4E86-921E-61FCFEC8BD5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Learning Objectives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Introduce Service-oriented Architecture and explain its relationship to current best practices in terms of IT service provision and business ope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xplain how Service-oriented Architecture can be used to drive technical innovation and support business process change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B591-72C9-470A-825C-609FB80977BA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at is SoA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ervice-oriented Architecture (SoA) defines how two or more services interact to enable one service to perform work on behalf of another service.  Each service interaction is self-contained and loosely coupled, so that each interaction remains independent of any other interaction.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76890-D2E2-49DF-9BE9-6F4CF9162F0B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y is SoA Important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Creates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new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business models and business opportunitie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ables business integration without requiring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homogeneity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nables the use of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n-demand services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 to reduce costs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Reduces the likelihood of the </a:t>
            </a:r>
            <a:r>
              <a:rPr b="1" lang="en-GB" sz="4000" spc="-1" strike="noStrike">
                <a:solidFill>
                  <a:srgbClr val="ff0000"/>
                </a:solidFill>
                <a:latin typeface="Times New Roman"/>
              </a:rPr>
              <a:t>one-stop-shop 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-5119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Simplifies technology integration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FC6D4-7E0E-4CC8-AFA4-3F0E94B2019E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en Should SoA Be Used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enable enterprise integration of disparate IT system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increase efficiency between business part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increase productivity by improving access to informa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leverage existing enterprise asset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-5227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o enable flexibility for rapid response to market change or new competition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o is Adopting SoA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74840" y="2196720"/>
            <a:ext cx="399096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pplier Perspecti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rge system suppliers targeting smaller us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mall system suppliers targeting Enterprise user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4618080" y="2196720"/>
            <a:ext cx="3992400" cy="593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ser’s Perspectiv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rge/Medium organisations with integration need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MEs requiring new business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799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cros needing low cost services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CFA0-927E-45F5-A3AE-0E8BA120F563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4F48-099C-4E4A-B902-463EE4AFE14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Where Should SoA Be Used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Everywhere (almost)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ifference between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OA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so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Open and proprietary approach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What abou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al-time and embedded systems 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tand-alone tools, applications and systems ?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F9F8-85B7-43AB-A738-31104AF53017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808080"/>
                </a:solidFill>
                <a:latin typeface="Times New Roman"/>
              </a:rPr>
              <a:t>How is SoA Achieved ?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74480" y="2234880"/>
            <a:ext cx="8135640" cy="58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ost systems use Web Services which is a combination of: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OAP messag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XML dat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01800" indent="-444600">
              <a:spcBef>
                <a:spcPts val="901"/>
              </a:spcBef>
              <a:buClr>
                <a:srgbClr val="80808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ypertext Transport Protocol (HTTP)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1001"/>
              </a:spcBef>
              <a:buClr>
                <a:srgbClr val="003300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An alternative lightweight approach, termed Web-oriented Architecture (WoA) uses RES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Footer Placeholder 3"/>
          <p:cNvSpPr/>
          <p:nvPr/>
        </p:nvSpPr>
        <p:spPr>
          <a:xfrm>
            <a:off x="339840" y="8555040"/>
            <a:ext cx="5321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gital 2020 SoA Session 1 - June 2009 / V1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Slide Number Placeholder 4"/>
          <p:cNvSpPr/>
          <p:nvPr/>
        </p:nvSpPr>
        <p:spPr>
          <a:xfrm>
            <a:off x="8147160" y="8494560"/>
            <a:ext cx="4824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D1990-A608-42A3-AAC1-821B9635746F}" type="slidenum"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8120" y="1198440"/>
            <a:ext cx="81532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80"/>
                </a:solidFill>
                <a:latin typeface="Times New Roman"/>
              </a:rPr>
              <a:t>Gartner Technology Cycle</a:t>
            </a:r>
            <a:endParaRPr b="1" lang="en-US" sz="4400" spc="-1" strike="noStrike">
              <a:solidFill>
                <a:srgbClr val="80808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1570680" y="7873920"/>
            <a:ext cx="572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Gartner: http://www.gartner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Group 13"/>
          <p:cNvGrpSpPr/>
          <p:nvPr/>
        </p:nvGrpSpPr>
        <p:grpSpPr>
          <a:xfrm>
            <a:off x="888480" y="2646000"/>
            <a:ext cx="7417440" cy="4232880"/>
            <a:chOff x="888480" y="2646000"/>
            <a:chExt cx="7417440" cy="4232880"/>
          </a:xfrm>
        </p:grpSpPr>
        <p:cxnSp>
          <p:nvCxnSpPr>
            <p:cNvPr id="670" name="Straight Arrow Connector 8"/>
            <p:cNvCxnSpPr/>
            <p:nvPr/>
          </p:nvCxnSpPr>
          <p:spPr>
            <a:xfrm>
              <a:off x="888480" y="6877080"/>
              <a:ext cx="7417800" cy="2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71" name="Straight Arrow Connector 10"/>
            <p:cNvCxnSpPr/>
            <p:nvPr/>
          </p:nvCxnSpPr>
          <p:spPr>
            <a:xfrm flipV="1">
              <a:off x="900360" y="2646000"/>
              <a:ext cx="13320" cy="4231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672" name="TextBox 14"/>
          <p:cNvSpPr/>
          <p:nvPr/>
        </p:nvSpPr>
        <p:spPr>
          <a:xfrm>
            <a:off x="7369560" y="688356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TextBox 15"/>
          <p:cNvSpPr/>
          <p:nvPr/>
        </p:nvSpPr>
        <p:spPr>
          <a:xfrm>
            <a:off x="196200" y="2108160"/>
            <a:ext cx="156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si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Straight Connector 17"/>
          <p:cNvSpPr/>
          <p:nvPr/>
        </p:nvSpPr>
        <p:spPr>
          <a:xfrm>
            <a:off x="896760" y="6265800"/>
            <a:ext cx="7340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Straight Connector 19"/>
          <p:cNvSpPr/>
          <p:nvPr/>
        </p:nvSpPr>
        <p:spPr>
          <a:xfrm flipH="1">
            <a:off x="1657440" y="2668680"/>
            <a:ext cx="1440" cy="3581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Freeform 39"/>
          <p:cNvSpPr/>
          <p:nvPr/>
        </p:nvSpPr>
        <p:spPr>
          <a:xfrm>
            <a:off x="1066680" y="2806560"/>
            <a:ext cx="7180560" cy="31957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Straight Connector 40"/>
          <p:cNvSpPr/>
          <p:nvPr/>
        </p:nvSpPr>
        <p:spPr>
          <a:xfrm flipH="1">
            <a:off x="2495520" y="2693880"/>
            <a:ext cx="1440" cy="358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Straight Connector 41"/>
          <p:cNvSpPr/>
          <p:nvPr/>
        </p:nvSpPr>
        <p:spPr>
          <a:xfrm flipH="1">
            <a:off x="7203600" y="2693880"/>
            <a:ext cx="1800" cy="358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Straight Connector 42"/>
          <p:cNvSpPr/>
          <p:nvPr/>
        </p:nvSpPr>
        <p:spPr>
          <a:xfrm flipH="1">
            <a:off x="4747680" y="2693880"/>
            <a:ext cx="1800" cy="35816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Box 43"/>
          <p:cNvSpPr/>
          <p:nvPr/>
        </p:nvSpPr>
        <p:spPr>
          <a:xfrm>
            <a:off x="7209360" y="619776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lateau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TextBox 44"/>
          <p:cNvSpPr/>
          <p:nvPr/>
        </p:nvSpPr>
        <p:spPr>
          <a:xfrm>
            <a:off x="4843440" y="617220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lope of Enlighte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TextBox 45"/>
          <p:cNvSpPr/>
          <p:nvPr/>
        </p:nvSpPr>
        <p:spPr>
          <a:xfrm>
            <a:off x="2481120" y="6197760"/>
            <a:ext cx="2276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ough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isillusi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Oval 46"/>
          <p:cNvSpPr/>
          <p:nvPr/>
        </p:nvSpPr>
        <p:spPr>
          <a:xfrm>
            <a:off x="7323120" y="4224240"/>
            <a:ext cx="203040" cy="203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Oval 47"/>
          <p:cNvSpPr/>
          <p:nvPr/>
        </p:nvSpPr>
        <p:spPr>
          <a:xfrm>
            <a:off x="1049400" y="7526160"/>
            <a:ext cx="203040" cy="203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Box 48"/>
          <p:cNvSpPr/>
          <p:nvPr/>
        </p:nvSpPr>
        <p:spPr>
          <a:xfrm>
            <a:off x="7307280" y="2443320"/>
            <a:ext cx="158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Web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Straight Connector 50"/>
          <p:cNvSpPr/>
          <p:nvPr/>
        </p:nvSpPr>
        <p:spPr>
          <a:xfrm>
            <a:off x="7424640" y="3301920"/>
            <a:ext cx="0" cy="92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Oval 51"/>
          <p:cNvSpPr/>
          <p:nvPr/>
        </p:nvSpPr>
        <p:spPr>
          <a:xfrm>
            <a:off x="5122800" y="5138640"/>
            <a:ext cx="203400" cy="203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TextBox 52"/>
          <p:cNvSpPr/>
          <p:nvPr/>
        </p:nvSpPr>
        <p:spPr>
          <a:xfrm>
            <a:off x="5118120" y="2811600"/>
            <a:ext cx="8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Straight Connector 53"/>
          <p:cNvSpPr/>
          <p:nvPr/>
        </p:nvSpPr>
        <p:spPr>
          <a:xfrm flipH="1">
            <a:off x="5213520" y="3362400"/>
            <a:ext cx="1440" cy="1787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Oval 55"/>
          <p:cNvSpPr/>
          <p:nvPr/>
        </p:nvSpPr>
        <p:spPr>
          <a:xfrm>
            <a:off x="3411360" y="7535880"/>
            <a:ext cx="203400" cy="2030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Oval 56"/>
          <p:cNvSpPr/>
          <p:nvPr/>
        </p:nvSpPr>
        <p:spPr>
          <a:xfrm>
            <a:off x="3429000" y="5122800"/>
            <a:ext cx="203040" cy="203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Straight Connector 57"/>
          <p:cNvSpPr/>
          <p:nvPr/>
        </p:nvSpPr>
        <p:spPr>
          <a:xfrm flipH="1">
            <a:off x="3546000" y="3328920"/>
            <a:ext cx="1800" cy="178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TextBox 58"/>
          <p:cNvSpPr/>
          <p:nvPr/>
        </p:nvSpPr>
        <p:spPr>
          <a:xfrm>
            <a:off x="2463840" y="2443320"/>
            <a:ext cx="223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-oriented Business A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Box 60"/>
          <p:cNvSpPr/>
          <p:nvPr/>
        </p:nvSpPr>
        <p:spPr>
          <a:xfrm>
            <a:off x="888840" y="6926400"/>
            <a:ext cx="582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ars to mainstream adop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TextBox 61"/>
          <p:cNvSpPr/>
          <p:nvPr/>
        </p:nvSpPr>
        <p:spPr>
          <a:xfrm>
            <a:off x="1333440" y="7370640"/>
            <a:ext cx="234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ss 2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TextBox 62"/>
          <p:cNvSpPr/>
          <p:nvPr/>
        </p:nvSpPr>
        <p:spPr>
          <a:xfrm>
            <a:off x="3720960" y="73706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5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2:33:52Z</dcterms:created>
  <dc:creator>C Smythe</dc:creator>
  <dc:description/>
  <dc:language>en-US</dc:language>
  <cp:lastModifiedBy>Colin Smythe</cp:lastModifiedBy>
  <cp:lastPrinted>2009-04-30T12:36:57Z</cp:lastPrinted>
  <dcterms:modified xsi:type="dcterms:W3CDTF">2009-06-15T07:48:58Z</dcterms:modified>
  <cp:revision>264</cp:revision>
  <dc:subject/>
  <dc:title>No Slide Title</dc:title>
</cp:coreProperties>
</file>